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52A1-FA0B-4BAB-87BD-580E13D1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1931-78F3-4658-A79A-7E9A4956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CB8B-F921-4827-A2B5-054C48C7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1CF7-A5EE-4ECE-A33B-98F074CC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933D-BB84-401C-A258-DAF4DBBA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E3F5-C1C3-4AB8-9E02-4F79F6F6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7905-F2A0-4C65-9723-4F46B1CF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FEDE-47FB-49C4-AFB3-9853341F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6182-5F90-49BC-9EE7-41945324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44DB-E700-490F-9252-76ADA696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0701-0645-4620-854C-ED76101E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D408-9248-4F52-9DCF-CF6B160B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B151-8AC3-49C3-9452-482DCDE5872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2152-43DD-41F6-90A6-A196E875C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0920" y="1116000"/>
            <a:ext cx="4105080" cy="4103640"/>
            <a:chOff x="250920" y="1116000"/>
            <a:chExt cx="4105080" cy="4103640"/>
          </a:xfrm>
        </p:grpSpPr>
        <p:sp>
          <p:nvSpPr>
            <p:cNvPr id="42" name=""/>
            <p:cNvSpPr/>
            <p:nvPr/>
          </p:nvSpPr>
          <p:spPr>
            <a:xfrm>
              <a:off x="250920" y="1116000"/>
              <a:ext cx="4105080" cy="4103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322200" y="1187280"/>
              <a:ext cx="3962160" cy="3960000"/>
              <a:chOff x="322200" y="1187280"/>
              <a:chExt cx="3962160" cy="396000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322200" y="1187280"/>
                <a:ext cx="3962160" cy="3960000"/>
                <a:chOff x="322200" y="1187280"/>
                <a:chExt cx="3962160" cy="3960000"/>
              </a:xfrm>
            </p:grpSpPr>
            <p:grpSp>
              <p:nvGrpSpPr>
                <p:cNvPr id="45" name=""/>
                <p:cNvGrpSpPr/>
                <p:nvPr/>
              </p:nvGrpSpPr>
              <p:grpSpPr>
                <a:xfrm>
                  <a:off x="323640" y="1187280"/>
                  <a:ext cx="3960720" cy="1655280"/>
                  <a:chOff x="323640" y="1187280"/>
                  <a:chExt cx="3960720" cy="165528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2628720" y="1187280"/>
                    <a:ext cx="1655640" cy="16552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23640" y="1187280"/>
                    <a:ext cx="1655640" cy="16552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1152360" y="1978920"/>
                    <a:ext cx="2317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" name=""/>
                <p:cNvGrpSpPr/>
                <p:nvPr/>
              </p:nvGrpSpPr>
              <p:grpSpPr>
                <a:xfrm>
                  <a:off x="322200" y="3492000"/>
                  <a:ext cx="3960720" cy="1655280"/>
                  <a:chOff x="322200" y="3492000"/>
                  <a:chExt cx="3960720" cy="165528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>
                    <a:off x="2627280" y="3492000"/>
                    <a:ext cx="1655640" cy="16552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2200" y="3492000"/>
                    <a:ext cx="1655640" cy="16552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1150920" y="4283640"/>
                    <a:ext cx="2317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" name=""/>
                <p:cNvSpPr/>
                <p:nvPr/>
              </p:nvSpPr>
              <p:spPr>
                <a:xfrm flipV="1">
                  <a:off x="1170000" y="1964520"/>
                  <a:ext cx="0" cy="2317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 flipV="1">
                  <a:off x="3473280" y="1978920"/>
                  <a:ext cx="0" cy="2317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64920" y="1474560"/>
                <a:ext cx="3313440" cy="3312360"/>
                <a:chOff x="664920" y="1474560"/>
                <a:chExt cx="3313440" cy="3312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664920" y="2626560"/>
                  <a:ext cx="3313440" cy="1007640"/>
                  <a:chOff x="664920" y="2626560"/>
                  <a:chExt cx="3313440" cy="100764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>
                    <a:off x="664920" y="2626560"/>
                    <a:ext cx="1008360" cy="100764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970000" y="2626560"/>
                    <a:ext cx="1008360" cy="100764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1817640" y="1474560"/>
                  <a:ext cx="1008000" cy="3312360"/>
                  <a:chOff x="1817640" y="1474560"/>
                  <a:chExt cx="1008000" cy="331236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16200000">
                    <a:off x="1817640" y="3778920"/>
                    <a:ext cx="1008000" cy="10080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16200000">
                    <a:off x="1817640" y="1474560"/>
                    <a:ext cx="1008000" cy="10080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2" name=""/>
          <p:cNvSpPr/>
          <p:nvPr/>
        </p:nvSpPr>
        <p:spPr>
          <a:xfrm>
            <a:off x="2086920" y="5445000"/>
            <a:ext cx="5055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eometrical Coverage 20’’ =  40% &amp; n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12’’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 2 n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20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981000"/>
            <a:ext cx="2325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7440" y="523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537372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7800" y="536724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98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9360" y="5223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3280" y="1125360"/>
            <a:ext cx="4105440" cy="410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538960" y="2025720"/>
            <a:ext cx="2317680" cy="2317680"/>
            <a:chOff x="5538960" y="2025720"/>
            <a:chExt cx="2317680" cy="2317680"/>
          </a:xfrm>
        </p:grpSpPr>
        <p:sp>
          <p:nvSpPr>
            <p:cNvPr id="71" name=""/>
            <p:cNvSpPr/>
            <p:nvPr/>
          </p:nvSpPr>
          <p:spPr>
            <a:xfrm rot="16200000">
              <a:off x="6194520" y="2678760"/>
              <a:ext cx="1007640" cy="10080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38960" y="2025720"/>
              <a:ext cx="2317680" cy="2317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710240" y="1197000"/>
            <a:ext cx="1655640" cy="1655640"/>
            <a:chOff x="4710240" y="1197000"/>
            <a:chExt cx="1655640" cy="1655640"/>
          </a:xfrm>
        </p:grpSpPr>
        <p:sp>
          <p:nvSpPr>
            <p:cNvPr id="74" name=""/>
            <p:cNvSpPr/>
            <p:nvPr/>
          </p:nvSpPr>
          <p:spPr>
            <a:xfrm>
              <a:off x="4710240" y="1197000"/>
              <a:ext cx="1655640" cy="165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0000">
              <a:off x="5033880" y="1520280"/>
              <a:ext cx="1007640" cy="100764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7026120" y="1197000"/>
            <a:ext cx="1655640" cy="1655640"/>
            <a:chOff x="7026120" y="1197000"/>
            <a:chExt cx="1655640" cy="1655640"/>
          </a:xfrm>
        </p:grpSpPr>
        <p:sp>
          <p:nvSpPr>
            <p:cNvPr id="77" name=""/>
            <p:cNvSpPr/>
            <p:nvPr/>
          </p:nvSpPr>
          <p:spPr>
            <a:xfrm>
              <a:off x="7026120" y="1197000"/>
              <a:ext cx="1655640" cy="165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6200000">
              <a:off x="7349760" y="1521000"/>
              <a:ext cx="1008000" cy="10080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710240" y="3502080"/>
            <a:ext cx="1655640" cy="1655640"/>
            <a:chOff x="4710240" y="3502080"/>
            <a:chExt cx="1655640" cy="1655640"/>
          </a:xfrm>
        </p:grpSpPr>
        <p:sp>
          <p:nvSpPr>
            <p:cNvPr id="80" name=""/>
            <p:cNvSpPr/>
            <p:nvPr/>
          </p:nvSpPr>
          <p:spPr>
            <a:xfrm>
              <a:off x="4710240" y="3502080"/>
              <a:ext cx="1655640" cy="165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5033880" y="3825360"/>
              <a:ext cx="1007640" cy="100764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7026120" y="3502080"/>
            <a:ext cx="1655640" cy="1655640"/>
            <a:chOff x="7026120" y="3502080"/>
            <a:chExt cx="1655640" cy="1655640"/>
          </a:xfrm>
        </p:grpSpPr>
        <p:sp>
          <p:nvSpPr>
            <p:cNvPr id="83" name=""/>
            <p:cNvSpPr/>
            <p:nvPr/>
          </p:nvSpPr>
          <p:spPr>
            <a:xfrm>
              <a:off x="7026120" y="3502080"/>
              <a:ext cx="1655640" cy="165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7349760" y="3826080"/>
              <a:ext cx="1008000" cy="10080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845DC-1FEC-485C-9C99-E76BC10434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428840" y="974880"/>
            <a:ext cx="6490440" cy="4469400"/>
            <a:chOff x="1428840" y="974880"/>
            <a:chExt cx="6490440" cy="4469400"/>
          </a:xfrm>
        </p:grpSpPr>
        <p:grpSp>
          <p:nvGrpSpPr>
            <p:cNvPr id="86" name=""/>
            <p:cNvGrpSpPr/>
            <p:nvPr/>
          </p:nvGrpSpPr>
          <p:grpSpPr>
            <a:xfrm>
              <a:off x="1444680" y="974880"/>
              <a:ext cx="3579840" cy="1627560"/>
              <a:chOff x="1444680" y="974880"/>
              <a:chExt cx="3579840" cy="162756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3369600" y="974880"/>
                <a:ext cx="1654920" cy="1627560"/>
                <a:chOff x="3369600" y="974880"/>
                <a:chExt cx="1654920" cy="162756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3714840" y="1315080"/>
                  <a:ext cx="965520" cy="952560"/>
                  <a:chOff x="3714840" y="1315080"/>
                  <a:chExt cx="965520" cy="9525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 rot="16200000">
                    <a:off x="3990600" y="15807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3714840" y="131508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3369600" y="974880"/>
                  <a:ext cx="689760" cy="680400"/>
                  <a:chOff x="3369600" y="974880"/>
                  <a:chExt cx="689760" cy="68040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336960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rot="16200000">
                    <a:off x="3507120" y="1104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4334760" y="974880"/>
                  <a:ext cx="689760" cy="680400"/>
                  <a:chOff x="4334760" y="974880"/>
                  <a:chExt cx="689760" cy="68040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433476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rot="16200000">
                    <a:off x="4471920" y="1104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3369600" y="1922040"/>
                  <a:ext cx="689760" cy="680400"/>
                  <a:chOff x="3369600" y="1922040"/>
                  <a:chExt cx="689760" cy="68040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336960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rot="16200000">
                    <a:off x="3507120" y="20520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"/>
                <p:cNvGrpSpPr/>
                <p:nvPr/>
              </p:nvGrpSpPr>
              <p:grpSpPr>
                <a:xfrm>
                  <a:off x="4334760" y="1922040"/>
                  <a:ext cx="689760" cy="680400"/>
                  <a:chOff x="4334760" y="1922040"/>
                  <a:chExt cx="689760" cy="68040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433476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rot="16200000">
                    <a:off x="4471920" y="20516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" name=""/>
              <p:cNvGrpSpPr/>
              <p:nvPr/>
            </p:nvGrpSpPr>
            <p:grpSpPr>
              <a:xfrm>
                <a:off x="2406960" y="974880"/>
                <a:ext cx="1654920" cy="1627560"/>
                <a:chOff x="2406960" y="974880"/>
                <a:chExt cx="1654920" cy="1627560"/>
              </a:xfrm>
            </p:grpSpPr>
            <p:grpSp>
              <p:nvGrpSpPr>
                <p:cNvPr id="104" name=""/>
                <p:cNvGrpSpPr/>
                <p:nvPr/>
              </p:nvGrpSpPr>
              <p:grpSpPr>
                <a:xfrm>
                  <a:off x="2752200" y="1315080"/>
                  <a:ext cx="965520" cy="952560"/>
                  <a:chOff x="2752200" y="1315080"/>
                  <a:chExt cx="965520" cy="9525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16200000">
                    <a:off x="3027960" y="15807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2752200" y="131508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2406960" y="974880"/>
                  <a:ext cx="689760" cy="680400"/>
                  <a:chOff x="2406960" y="974880"/>
                  <a:chExt cx="689760" cy="6804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240696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2544480" y="1104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3372120" y="974880"/>
                  <a:ext cx="689760" cy="680400"/>
                  <a:chOff x="3372120" y="974880"/>
                  <a:chExt cx="689760" cy="6804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>
                    <a:off x="337212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16200000">
                    <a:off x="3509280" y="1104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2406960" y="1922040"/>
                  <a:ext cx="689760" cy="680400"/>
                  <a:chOff x="2406960" y="1922040"/>
                  <a:chExt cx="689760" cy="6804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240696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16200000">
                    <a:off x="2544480" y="20520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3372120" y="1922040"/>
                  <a:ext cx="689760" cy="680400"/>
                  <a:chOff x="3372120" y="1922040"/>
                  <a:chExt cx="689760" cy="6804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>
                    <a:off x="337212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6200000">
                    <a:off x="3509280" y="20516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" name=""/>
              <p:cNvGrpSpPr/>
              <p:nvPr/>
            </p:nvGrpSpPr>
            <p:grpSpPr>
              <a:xfrm>
                <a:off x="1444680" y="974880"/>
                <a:ext cx="1654920" cy="1627560"/>
                <a:chOff x="1444680" y="974880"/>
                <a:chExt cx="1654920" cy="162756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1789920" y="1315080"/>
                  <a:ext cx="965520" cy="952560"/>
                  <a:chOff x="1789920" y="1315080"/>
                  <a:chExt cx="965520" cy="95256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 rot="16200000">
                    <a:off x="2065680" y="15807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1789920" y="131508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"/>
                <p:cNvGrpSpPr/>
                <p:nvPr/>
              </p:nvGrpSpPr>
              <p:grpSpPr>
                <a:xfrm>
                  <a:off x="1444680" y="974880"/>
                  <a:ext cx="689760" cy="680400"/>
                  <a:chOff x="1444680" y="974880"/>
                  <a:chExt cx="689760" cy="68040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144468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rot="16200000">
                    <a:off x="1582200" y="1104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"/>
                <p:cNvGrpSpPr/>
                <p:nvPr/>
              </p:nvGrpSpPr>
              <p:grpSpPr>
                <a:xfrm>
                  <a:off x="2409840" y="974880"/>
                  <a:ext cx="689760" cy="680400"/>
                  <a:chOff x="2409840" y="974880"/>
                  <a:chExt cx="689760" cy="68040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240984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rot="16200000">
                    <a:off x="2547000" y="1104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"/>
                <p:cNvGrpSpPr/>
                <p:nvPr/>
              </p:nvGrpSpPr>
              <p:grpSpPr>
                <a:xfrm>
                  <a:off x="1444680" y="1922040"/>
                  <a:ext cx="689760" cy="680400"/>
                  <a:chOff x="1444680" y="1922040"/>
                  <a:chExt cx="689760" cy="68040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144468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rot="16200000">
                    <a:off x="1582200" y="20520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2409840" y="1922040"/>
                  <a:ext cx="689760" cy="680400"/>
                  <a:chOff x="2409840" y="1922040"/>
                  <a:chExt cx="689760" cy="68040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240984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rot="16200000">
                    <a:off x="2547000" y="20516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5" name=""/>
            <p:cNvGrpSpPr/>
            <p:nvPr/>
          </p:nvGrpSpPr>
          <p:grpSpPr>
            <a:xfrm>
              <a:off x="4340160" y="974880"/>
              <a:ext cx="3579120" cy="1627560"/>
              <a:chOff x="4340160" y="974880"/>
              <a:chExt cx="3579120" cy="162756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6264720" y="974880"/>
                <a:ext cx="1654560" cy="1627560"/>
                <a:chOff x="6264720" y="974880"/>
                <a:chExt cx="1654560" cy="1627560"/>
              </a:xfrm>
            </p:grpSpPr>
            <p:grpSp>
              <p:nvGrpSpPr>
                <p:cNvPr id="137" name=""/>
                <p:cNvGrpSpPr/>
                <p:nvPr/>
              </p:nvGrpSpPr>
              <p:grpSpPr>
                <a:xfrm>
                  <a:off x="6609960" y="1315080"/>
                  <a:ext cx="965520" cy="952560"/>
                  <a:chOff x="6609960" y="1315080"/>
                  <a:chExt cx="965520" cy="95256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 rot="16200000">
                    <a:off x="6885720" y="15807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6609960" y="131508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6264720" y="974880"/>
                  <a:ext cx="689760" cy="680400"/>
                  <a:chOff x="6264720" y="974880"/>
                  <a:chExt cx="689760" cy="68040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626472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rot="16200000">
                    <a:off x="6402240" y="1104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7229520" y="974880"/>
                  <a:ext cx="689760" cy="680400"/>
                  <a:chOff x="7229520" y="974880"/>
                  <a:chExt cx="689760" cy="68040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22952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rot="16200000">
                    <a:off x="7366680" y="1104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6264720" y="1922040"/>
                  <a:ext cx="689760" cy="680400"/>
                  <a:chOff x="6264720" y="1922040"/>
                  <a:chExt cx="689760" cy="68040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626472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6200000">
                    <a:off x="6402240" y="20520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7229520" y="1922040"/>
                  <a:ext cx="689760" cy="680400"/>
                  <a:chOff x="7229520" y="1922040"/>
                  <a:chExt cx="689760" cy="68040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722952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6200000">
                    <a:off x="7366680" y="20516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" name=""/>
              <p:cNvGrpSpPr/>
              <p:nvPr/>
            </p:nvGrpSpPr>
            <p:grpSpPr>
              <a:xfrm>
                <a:off x="5302440" y="974880"/>
                <a:ext cx="1654560" cy="1627560"/>
                <a:chOff x="5302440" y="974880"/>
                <a:chExt cx="1654560" cy="162756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5647680" y="1315080"/>
                  <a:ext cx="965520" cy="952560"/>
                  <a:chOff x="5647680" y="1315080"/>
                  <a:chExt cx="965520" cy="95256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rot="16200000">
                    <a:off x="5923440" y="15807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5647680" y="131508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5302440" y="974880"/>
                  <a:ext cx="689760" cy="680400"/>
                  <a:chOff x="5302440" y="974880"/>
                  <a:chExt cx="689760" cy="68040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530244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16200000">
                    <a:off x="5439960" y="1104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6267240" y="974880"/>
                  <a:ext cx="689760" cy="680400"/>
                  <a:chOff x="6267240" y="974880"/>
                  <a:chExt cx="689760" cy="68040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626724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16200000">
                    <a:off x="6404400" y="1104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5302440" y="1922040"/>
                  <a:ext cx="689760" cy="680400"/>
                  <a:chOff x="5302440" y="1922040"/>
                  <a:chExt cx="689760" cy="6804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530244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16200000">
                    <a:off x="5439960" y="20520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6267240" y="1922040"/>
                  <a:ext cx="689760" cy="680400"/>
                  <a:chOff x="6267240" y="1922040"/>
                  <a:chExt cx="689760" cy="68040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626724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16200000">
                    <a:off x="6404400" y="20516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8" name=""/>
              <p:cNvGrpSpPr/>
              <p:nvPr/>
            </p:nvGrpSpPr>
            <p:grpSpPr>
              <a:xfrm>
                <a:off x="4340160" y="974880"/>
                <a:ext cx="1654560" cy="1627560"/>
                <a:chOff x="4340160" y="974880"/>
                <a:chExt cx="1654560" cy="162756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4685400" y="1315080"/>
                  <a:ext cx="965520" cy="952560"/>
                  <a:chOff x="4685400" y="1315080"/>
                  <a:chExt cx="965520" cy="9525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rot="16200000">
                    <a:off x="4961160" y="15807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4685400" y="131508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4340160" y="974880"/>
                  <a:ext cx="689760" cy="680400"/>
                  <a:chOff x="4340160" y="974880"/>
                  <a:chExt cx="689760" cy="68040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434016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rot="16200000">
                    <a:off x="4477680" y="1104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5304960" y="974880"/>
                  <a:ext cx="689760" cy="680400"/>
                  <a:chOff x="5304960" y="974880"/>
                  <a:chExt cx="689760" cy="68040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530496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rot="16200000">
                    <a:off x="5442120" y="1104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4340160" y="1922040"/>
                  <a:ext cx="689760" cy="680400"/>
                  <a:chOff x="4340160" y="1922040"/>
                  <a:chExt cx="689760" cy="68040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434016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rot="16200000">
                    <a:off x="4477680" y="20520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5304960" y="1922040"/>
                  <a:ext cx="689760" cy="680400"/>
                  <a:chOff x="5304960" y="1922040"/>
                  <a:chExt cx="689760" cy="68040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530496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rot="16200000">
                    <a:off x="5442120" y="20516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4" name=""/>
            <p:cNvGrpSpPr/>
            <p:nvPr/>
          </p:nvGrpSpPr>
          <p:grpSpPr>
            <a:xfrm>
              <a:off x="1436760" y="1922400"/>
              <a:ext cx="3579120" cy="1627560"/>
              <a:chOff x="1436760" y="1922400"/>
              <a:chExt cx="3579120" cy="162756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3361320" y="1922400"/>
                <a:ext cx="1654560" cy="1627560"/>
                <a:chOff x="3361320" y="1922400"/>
                <a:chExt cx="1654560" cy="162756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3706560" y="2262600"/>
                  <a:ext cx="965520" cy="952560"/>
                  <a:chOff x="3706560" y="2262600"/>
                  <a:chExt cx="965520" cy="95256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16200000">
                    <a:off x="3982320" y="25282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3706560" y="226260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3361320" y="1922400"/>
                  <a:ext cx="689760" cy="680400"/>
                  <a:chOff x="3361320" y="1922400"/>
                  <a:chExt cx="689760" cy="68040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336132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16200000">
                    <a:off x="3498840" y="20523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4326120" y="1922400"/>
                  <a:ext cx="689760" cy="680400"/>
                  <a:chOff x="4326120" y="1922400"/>
                  <a:chExt cx="689760" cy="68040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432612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rot="16200000">
                    <a:off x="4463280" y="20520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3361320" y="2869560"/>
                  <a:ext cx="689760" cy="680400"/>
                  <a:chOff x="3361320" y="2869560"/>
                  <a:chExt cx="689760" cy="68040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336132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rot="16200000">
                    <a:off x="3498840" y="29995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4326120" y="2869560"/>
                  <a:ext cx="689760" cy="680400"/>
                  <a:chOff x="4326120" y="2869560"/>
                  <a:chExt cx="689760" cy="68040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432612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rot="16200000">
                    <a:off x="4463280" y="299916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1" name=""/>
              <p:cNvGrpSpPr/>
              <p:nvPr/>
            </p:nvGrpSpPr>
            <p:grpSpPr>
              <a:xfrm>
                <a:off x="2399040" y="1922400"/>
                <a:ext cx="1654560" cy="1627560"/>
                <a:chOff x="2399040" y="1922400"/>
                <a:chExt cx="1654560" cy="162756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2744280" y="2262600"/>
                  <a:ext cx="965520" cy="952560"/>
                  <a:chOff x="2744280" y="2262600"/>
                  <a:chExt cx="965520" cy="95256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rot="16200000">
                    <a:off x="3020040" y="25282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2744280" y="226260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2399040" y="1922400"/>
                  <a:ext cx="689760" cy="680400"/>
                  <a:chOff x="2399040" y="1922400"/>
                  <a:chExt cx="689760" cy="68040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239904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rot="16200000">
                    <a:off x="2536560" y="20523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3363840" y="1922400"/>
                  <a:ext cx="689760" cy="680400"/>
                  <a:chOff x="3363840" y="1922400"/>
                  <a:chExt cx="689760" cy="68040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336384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rot="16200000">
                    <a:off x="3501000" y="20520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2399040" y="2869560"/>
                  <a:ext cx="689760" cy="680400"/>
                  <a:chOff x="2399040" y="2869560"/>
                  <a:chExt cx="689760" cy="68040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>
                    <a:off x="239904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rot="16200000">
                    <a:off x="2536560" y="29995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3363840" y="2869560"/>
                  <a:ext cx="689760" cy="680400"/>
                  <a:chOff x="3363840" y="2869560"/>
                  <a:chExt cx="689760" cy="68040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336384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rot="16200000">
                    <a:off x="3501000" y="299916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7" name=""/>
              <p:cNvGrpSpPr/>
              <p:nvPr/>
            </p:nvGrpSpPr>
            <p:grpSpPr>
              <a:xfrm>
                <a:off x="1436760" y="1922400"/>
                <a:ext cx="1654560" cy="1627560"/>
                <a:chOff x="1436760" y="1922400"/>
                <a:chExt cx="1654560" cy="1627560"/>
              </a:xfrm>
            </p:grpSpPr>
            <p:grpSp>
              <p:nvGrpSpPr>
                <p:cNvPr id="218" name=""/>
                <p:cNvGrpSpPr/>
                <p:nvPr/>
              </p:nvGrpSpPr>
              <p:grpSpPr>
                <a:xfrm>
                  <a:off x="1782000" y="2262600"/>
                  <a:ext cx="965520" cy="952560"/>
                  <a:chOff x="1782000" y="2262600"/>
                  <a:chExt cx="965520" cy="95256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rot="16200000">
                    <a:off x="2057760" y="25282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1782000" y="226260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1436760" y="1922400"/>
                  <a:ext cx="689760" cy="680400"/>
                  <a:chOff x="1436760" y="1922400"/>
                  <a:chExt cx="689760" cy="68040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143676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rot="16200000">
                    <a:off x="1574280" y="20523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2401560" y="1922400"/>
                  <a:ext cx="689760" cy="680400"/>
                  <a:chOff x="2401560" y="1922400"/>
                  <a:chExt cx="689760" cy="6804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240156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16200000">
                    <a:off x="2538720" y="20520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1436760" y="2869560"/>
                  <a:ext cx="689760" cy="680400"/>
                  <a:chOff x="1436760" y="2869560"/>
                  <a:chExt cx="689760" cy="68040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143676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rot="16200000">
                    <a:off x="1574280" y="29995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2401560" y="2869560"/>
                  <a:ext cx="689760" cy="680400"/>
                  <a:chOff x="2401560" y="2869560"/>
                  <a:chExt cx="689760" cy="68040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>
                    <a:off x="240156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rot="16200000">
                    <a:off x="2538720" y="299916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3" name=""/>
            <p:cNvGrpSpPr/>
            <p:nvPr/>
          </p:nvGrpSpPr>
          <p:grpSpPr>
            <a:xfrm>
              <a:off x="4332240" y="1922400"/>
              <a:ext cx="3579840" cy="1627560"/>
              <a:chOff x="4332240" y="1922400"/>
              <a:chExt cx="3579840" cy="162756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257160" y="1922400"/>
                <a:ext cx="1654920" cy="1627560"/>
                <a:chOff x="6257160" y="1922400"/>
                <a:chExt cx="1654920" cy="1627560"/>
              </a:xfrm>
            </p:grpSpPr>
            <p:grpSp>
              <p:nvGrpSpPr>
                <p:cNvPr id="235" name=""/>
                <p:cNvGrpSpPr/>
                <p:nvPr/>
              </p:nvGrpSpPr>
              <p:grpSpPr>
                <a:xfrm>
                  <a:off x="6602400" y="2262600"/>
                  <a:ext cx="965520" cy="952560"/>
                  <a:chOff x="6602400" y="2262600"/>
                  <a:chExt cx="965520" cy="95256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rot="16200000">
                    <a:off x="6878160" y="25282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6602400" y="226260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6257160" y="1922400"/>
                  <a:ext cx="689760" cy="680400"/>
                  <a:chOff x="6257160" y="1922400"/>
                  <a:chExt cx="689760" cy="68040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625716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16200000">
                    <a:off x="6394680" y="20523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7222320" y="1922400"/>
                  <a:ext cx="689760" cy="680400"/>
                  <a:chOff x="7222320" y="1922400"/>
                  <a:chExt cx="689760" cy="68040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722232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16200000">
                    <a:off x="7359480" y="20520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6257160" y="2869560"/>
                  <a:ext cx="689760" cy="680400"/>
                  <a:chOff x="6257160" y="2869560"/>
                  <a:chExt cx="689760" cy="68040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625716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16200000">
                    <a:off x="6394680" y="29995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7222320" y="2869560"/>
                  <a:ext cx="689760" cy="680400"/>
                  <a:chOff x="7222320" y="2869560"/>
                  <a:chExt cx="689760" cy="68040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722232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16200000">
                    <a:off x="7359480" y="299916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" name=""/>
              <p:cNvGrpSpPr/>
              <p:nvPr/>
            </p:nvGrpSpPr>
            <p:grpSpPr>
              <a:xfrm>
                <a:off x="5294520" y="1922400"/>
                <a:ext cx="1654920" cy="1627560"/>
                <a:chOff x="5294520" y="1922400"/>
                <a:chExt cx="1654920" cy="1627560"/>
              </a:xfrm>
            </p:grpSpPr>
            <p:grpSp>
              <p:nvGrpSpPr>
                <p:cNvPr id="251" name=""/>
                <p:cNvGrpSpPr/>
                <p:nvPr/>
              </p:nvGrpSpPr>
              <p:grpSpPr>
                <a:xfrm>
                  <a:off x="5639760" y="2262600"/>
                  <a:ext cx="965520" cy="952560"/>
                  <a:chOff x="5639760" y="2262600"/>
                  <a:chExt cx="965520" cy="95256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 rot="16200000">
                    <a:off x="5915520" y="25282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5639760" y="226260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5294520" y="1922400"/>
                  <a:ext cx="689760" cy="680400"/>
                  <a:chOff x="5294520" y="1922400"/>
                  <a:chExt cx="689760" cy="68040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529452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rot="16200000">
                    <a:off x="5432040" y="20523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6259680" y="1922400"/>
                  <a:ext cx="689760" cy="680400"/>
                  <a:chOff x="6259680" y="1922400"/>
                  <a:chExt cx="689760" cy="68040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625968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rot="16200000">
                    <a:off x="6396840" y="20520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5294520" y="2869560"/>
                  <a:ext cx="689760" cy="680400"/>
                  <a:chOff x="5294520" y="2869560"/>
                  <a:chExt cx="689760" cy="6804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529452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rot="16200000">
                    <a:off x="5432040" y="29995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6259680" y="2869560"/>
                  <a:ext cx="689760" cy="680400"/>
                  <a:chOff x="6259680" y="2869560"/>
                  <a:chExt cx="689760" cy="68040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625968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rot="16200000">
                    <a:off x="6396840" y="299916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6" name=""/>
              <p:cNvGrpSpPr/>
              <p:nvPr/>
            </p:nvGrpSpPr>
            <p:grpSpPr>
              <a:xfrm>
                <a:off x="4332240" y="1922400"/>
                <a:ext cx="1654920" cy="1627560"/>
                <a:chOff x="4332240" y="1922400"/>
                <a:chExt cx="1654920" cy="162756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4677480" y="2262600"/>
                  <a:ext cx="965520" cy="952560"/>
                  <a:chOff x="4677480" y="2262600"/>
                  <a:chExt cx="965520" cy="95256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 rot="16200000">
                    <a:off x="4953240" y="25282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4677480" y="226260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4332240" y="1922400"/>
                  <a:ext cx="689760" cy="680400"/>
                  <a:chOff x="4332240" y="1922400"/>
                  <a:chExt cx="689760" cy="68040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433224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rot="16200000">
                    <a:off x="4469760" y="20523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"/>
                <p:cNvGrpSpPr/>
                <p:nvPr/>
              </p:nvGrpSpPr>
              <p:grpSpPr>
                <a:xfrm>
                  <a:off x="5297400" y="1922400"/>
                  <a:ext cx="689760" cy="680400"/>
                  <a:chOff x="5297400" y="1922400"/>
                  <a:chExt cx="689760" cy="68040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529740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rot="16200000">
                    <a:off x="5434560" y="20520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4332240" y="2869560"/>
                  <a:ext cx="689760" cy="680400"/>
                  <a:chOff x="4332240" y="2869560"/>
                  <a:chExt cx="689760" cy="68040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433224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rot="16200000">
                    <a:off x="4469760" y="29995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5297400" y="2869560"/>
                  <a:ext cx="689760" cy="680400"/>
                  <a:chOff x="5297400" y="2869560"/>
                  <a:chExt cx="689760" cy="68040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529740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rot="16200000">
                    <a:off x="5434560" y="299916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2" name=""/>
            <p:cNvGrpSpPr/>
            <p:nvPr/>
          </p:nvGrpSpPr>
          <p:grpSpPr>
            <a:xfrm>
              <a:off x="1436760" y="2868840"/>
              <a:ext cx="3579120" cy="1627560"/>
              <a:chOff x="1436760" y="2868840"/>
              <a:chExt cx="3579120" cy="162756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3361320" y="2868840"/>
                <a:ext cx="1654560" cy="1627560"/>
                <a:chOff x="3361320" y="2868840"/>
                <a:chExt cx="1654560" cy="1627560"/>
              </a:xfrm>
            </p:grpSpPr>
            <p:grpSp>
              <p:nvGrpSpPr>
                <p:cNvPr id="284" name=""/>
                <p:cNvGrpSpPr/>
                <p:nvPr/>
              </p:nvGrpSpPr>
              <p:grpSpPr>
                <a:xfrm>
                  <a:off x="3706560" y="3209040"/>
                  <a:ext cx="965520" cy="952560"/>
                  <a:chOff x="3706560" y="3209040"/>
                  <a:chExt cx="965520" cy="95256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 rot="16200000">
                    <a:off x="3982320" y="34747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3706560" y="320904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3361320" y="2868840"/>
                  <a:ext cx="689760" cy="680400"/>
                  <a:chOff x="3361320" y="2868840"/>
                  <a:chExt cx="689760" cy="68040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336132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rot="16200000">
                    <a:off x="3498840" y="29988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4326120" y="2868840"/>
                  <a:ext cx="689760" cy="680400"/>
                  <a:chOff x="4326120" y="2868840"/>
                  <a:chExt cx="689760" cy="68040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2612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16200000">
                    <a:off x="4463280" y="29984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3361320" y="3816000"/>
                  <a:ext cx="689760" cy="680400"/>
                  <a:chOff x="3361320" y="3816000"/>
                  <a:chExt cx="689760" cy="6804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>
                    <a:off x="336132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6200000">
                    <a:off x="3498840" y="39459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4326120" y="3816000"/>
                  <a:ext cx="689760" cy="680400"/>
                  <a:chOff x="4326120" y="3816000"/>
                  <a:chExt cx="689760" cy="68040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432612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16200000">
                    <a:off x="4463280" y="39456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9" name=""/>
              <p:cNvGrpSpPr/>
              <p:nvPr/>
            </p:nvGrpSpPr>
            <p:grpSpPr>
              <a:xfrm>
                <a:off x="2399040" y="2868840"/>
                <a:ext cx="1654560" cy="1627560"/>
                <a:chOff x="2399040" y="2868840"/>
                <a:chExt cx="1654560" cy="1627560"/>
              </a:xfrm>
            </p:grpSpPr>
            <p:grpSp>
              <p:nvGrpSpPr>
                <p:cNvPr id="300" name=""/>
                <p:cNvGrpSpPr/>
                <p:nvPr/>
              </p:nvGrpSpPr>
              <p:grpSpPr>
                <a:xfrm>
                  <a:off x="2744280" y="3209040"/>
                  <a:ext cx="965520" cy="952560"/>
                  <a:chOff x="2744280" y="3209040"/>
                  <a:chExt cx="965520" cy="95256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rot="16200000">
                    <a:off x="3020040" y="34747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2744280" y="320904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2399040" y="2868840"/>
                  <a:ext cx="689760" cy="680400"/>
                  <a:chOff x="2399040" y="2868840"/>
                  <a:chExt cx="689760" cy="68040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239904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rot="16200000">
                    <a:off x="2536560" y="29988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3363840" y="2868840"/>
                  <a:ext cx="689760" cy="680400"/>
                  <a:chOff x="3363840" y="2868840"/>
                  <a:chExt cx="689760" cy="68040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336384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rot="16200000">
                    <a:off x="3501000" y="29984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2399040" y="3816000"/>
                  <a:ext cx="689760" cy="680400"/>
                  <a:chOff x="2399040" y="3816000"/>
                  <a:chExt cx="689760" cy="68040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239904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rot="16200000">
                    <a:off x="2536560" y="39459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3363840" y="3816000"/>
                  <a:ext cx="689760" cy="680400"/>
                  <a:chOff x="3363840" y="3816000"/>
                  <a:chExt cx="689760" cy="68040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>
                    <a:off x="336384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rot="16200000">
                    <a:off x="3501000" y="39456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5" name=""/>
              <p:cNvGrpSpPr/>
              <p:nvPr/>
            </p:nvGrpSpPr>
            <p:grpSpPr>
              <a:xfrm>
                <a:off x="1436760" y="2868840"/>
                <a:ext cx="1654560" cy="1627560"/>
                <a:chOff x="1436760" y="2868840"/>
                <a:chExt cx="1654560" cy="1627560"/>
              </a:xfrm>
            </p:grpSpPr>
            <p:grpSp>
              <p:nvGrpSpPr>
                <p:cNvPr id="316" name=""/>
                <p:cNvGrpSpPr/>
                <p:nvPr/>
              </p:nvGrpSpPr>
              <p:grpSpPr>
                <a:xfrm>
                  <a:off x="1782000" y="3209040"/>
                  <a:ext cx="965520" cy="952560"/>
                  <a:chOff x="1782000" y="3209040"/>
                  <a:chExt cx="965520" cy="95256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rot="16200000">
                    <a:off x="2057760" y="34747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1782000" y="320904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1436760" y="2868840"/>
                  <a:ext cx="689760" cy="680400"/>
                  <a:chOff x="1436760" y="2868840"/>
                  <a:chExt cx="689760" cy="68040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>
                    <a:off x="143676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rot="16200000">
                    <a:off x="1574280" y="29988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"/>
                <p:cNvGrpSpPr/>
                <p:nvPr/>
              </p:nvGrpSpPr>
              <p:grpSpPr>
                <a:xfrm>
                  <a:off x="2401560" y="2868840"/>
                  <a:ext cx="689760" cy="680400"/>
                  <a:chOff x="2401560" y="2868840"/>
                  <a:chExt cx="689760" cy="68040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>
                    <a:off x="240156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rot="16200000">
                    <a:off x="2538720" y="29984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1436760" y="3816000"/>
                  <a:ext cx="689760" cy="680400"/>
                  <a:chOff x="1436760" y="3816000"/>
                  <a:chExt cx="689760" cy="68040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143676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rot="16200000">
                    <a:off x="1574280" y="39459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2401560" y="3816000"/>
                  <a:ext cx="689760" cy="680400"/>
                  <a:chOff x="2401560" y="3816000"/>
                  <a:chExt cx="689760" cy="68040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240156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rot="16200000">
                    <a:off x="2538720" y="39456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31" name=""/>
            <p:cNvGrpSpPr/>
            <p:nvPr/>
          </p:nvGrpSpPr>
          <p:grpSpPr>
            <a:xfrm>
              <a:off x="4332240" y="2868840"/>
              <a:ext cx="3579840" cy="1627560"/>
              <a:chOff x="4332240" y="2868840"/>
              <a:chExt cx="3579840" cy="162756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6257160" y="2868840"/>
                <a:ext cx="1654920" cy="1627560"/>
                <a:chOff x="6257160" y="2868840"/>
                <a:chExt cx="1654920" cy="1627560"/>
              </a:xfrm>
            </p:grpSpPr>
            <p:grpSp>
              <p:nvGrpSpPr>
                <p:cNvPr id="333" name=""/>
                <p:cNvGrpSpPr/>
                <p:nvPr/>
              </p:nvGrpSpPr>
              <p:grpSpPr>
                <a:xfrm>
                  <a:off x="6602400" y="3209040"/>
                  <a:ext cx="965520" cy="952560"/>
                  <a:chOff x="6602400" y="3209040"/>
                  <a:chExt cx="965520" cy="95256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 rot="16200000">
                    <a:off x="6878160" y="34747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6602400" y="320904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6257160" y="2868840"/>
                  <a:ext cx="689760" cy="680400"/>
                  <a:chOff x="6257160" y="2868840"/>
                  <a:chExt cx="689760" cy="68040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625716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rot="16200000">
                    <a:off x="6394680" y="29988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7222320" y="2868840"/>
                  <a:ext cx="689760" cy="680400"/>
                  <a:chOff x="7222320" y="2868840"/>
                  <a:chExt cx="689760" cy="68040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722232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rot="16200000">
                    <a:off x="7359480" y="29984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6257160" y="3816000"/>
                  <a:ext cx="689760" cy="680400"/>
                  <a:chOff x="6257160" y="3816000"/>
                  <a:chExt cx="689760" cy="68040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>
                    <a:off x="625716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rot="16200000">
                    <a:off x="6394680" y="39459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222320" y="3816000"/>
                  <a:ext cx="689760" cy="680400"/>
                  <a:chOff x="7222320" y="3816000"/>
                  <a:chExt cx="689760" cy="68040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22232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rot="16200000">
                    <a:off x="7359480" y="39456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8" name=""/>
              <p:cNvGrpSpPr/>
              <p:nvPr/>
            </p:nvGrpSpPr>
            <p:grpSpPr>
              <a:xfrm>
                <a:off x="5294520" y="2868840"/>
                <a:ext cx="1654920" cy="1627560"/>
                <a:chOff x="5294520" y="2868840"/>
                <a:chExt cx="1654920" cy="162756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5639760" y="3209040"/>
                  <a:ext cx="965520" cy="952560"/>
                  <a:chOff x="5639760" y="3209040"/>
                  <a:chExt cx="965520" cy="95256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 rot="16200000">
                    <a:off x="5915520" y="34747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639760" y="320904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5294520" y="2868840"/>
                  <a:ext cx="689760" cy="680400"/>
                  <a:chOff x="5294520" y="2868840"/>
                  <a:chExt cx="689760" cy="68040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>
                    <a:off x="529452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rot="16200000">
                    <a:off x="5432040" y="29988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6259680" y="2868840"/>
                  <a:ext cx="689760" cy="680400"/>
                  <a:chOff x="6259680" y="2868840"/>
                  <a:chExt cx="689760" cy="68040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625968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6200000">
                    <a:off x="6396840" y="29984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5294520" y="3816000"/>
                  <a:ext cx="689760" cy="680400"/>
                  <a:chOff x="5294520" y="3816000"/>
                  <a:chExt cx="689760" cy="6804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529452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6200000">
                    <a:off x="5432040" y="39459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6259680" y="3816000"/>
                  <a:ext cx="689760" cy="680400"/>
                  <a:chOff x="6259680" y="3816000"/>
                  <a:chExt cx="689760" cy="68040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>
                    <a:off x="625968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200000">
                    <a:off x="6396840" y="39456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4" name=""/>
              <p:cNvGrpSpPr/>
              <p:nvPr/>
            </p:nvGrpSpPr>
            <p:grpSpPr>
              <a:xfrm>
                <a:off x="4332240" y="2868840"/>
                <a:ext cx="1654920" cy="1627560"/>
                <a:chOff x="4332240" y="2868840"/>
                <a:chExt cx="1654920" cy="1627560"/>
              </a:xfrm>
            </p:grpSpPr>
            <p:grpSp>
              <p:nvGrpSpPr>
                <p:cNvPr id="365" name=""/>
                <p:cNvGrpSpPr/>
                <p:nvPr/>
              </p:nvGrpSpPr>
              <p:grpSpPr>
                <a:xfrm>
                  <a:off x="4677480" y="3209040"/>
                  <a:ext cx="965520" cy="952560"/>
                  <a:chOff x="4677480" y="3209040"/>
                  <a:chExt cx="965520" cy="95256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rot="16200000">
                    <a:off x="4953240" y="34747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4677480" y="320904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4332240" y="2868840"/>
                  <a:ext cx="689760" cy="680400"/>
                  <a:chOff x="4332240" y="2868840"/>
                  <a:chExt cx="689760" cy="68040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433224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rot="16200000">
                    <a:off x="4469760" y="29988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5297400" y="2868840"/>
                  <a:ext cx="689760" cy="680400"/>
                  <a:chOff x="5297400" y="2868840"/>
                  <a:chExt cx="689760" cy="68040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529740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rot="16200000">
                    <a:off x="5434560" y="29984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4332240" y="3816000"/>
                  <a:ext cx="689760" cy="680400"/>
                  <a:chOff x="4332240" y="3816000"/>
                  <a:chExt cx="689760" cy="68040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433224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rot="16200000">
                    <a:off x="4469760" y="39459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5297400" y="3816000"/>
                  <a:ext cx="689760" cy="680400"/>
                  <a:chOff x="5297400" y="3816000"/>
                  <a:chExt cx="689760" cy="68040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>
                    <a:off x="529740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rot="16200000">
                    <a:off x="5434560" y="39456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80" name=""/>
            <p:cNvGrpSpPr/>
            <p:nvPr/>
          </p:nvGrpSpPr>
          <p:grpSpPr>
            <a:xfrm>
              <a:off x="1428840" y="3816720"/>
              <a:ext cx="3579840" cy="1627560"/>
              <a:chOff x="1428840" y="3816720"/>
              <a:chExt cx="3579840" cy="162756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3353760" y="3816720"/>
                <a:ext cx="1654920" cy="1627560"/>
                <a:chOff x="3353760" y="3816720"/>
                <a:chExt cx="1654920" cy="1627560"/>
              </a:xfrm>
            </p:grpSpPr>
            <p:grpSp>
              <p:nvGrpSpPr>
                <p:cNvPr id="382" name=""/>
                <p:cNvGrpSpPr/>
                <p:nvPr/>
              </p:nvGrpSpPr>
              <p:grpSpPr>
                <a:xfrm>
                  <a:off x="3699000" y="4156920"/>
                  <a:ext cx="965520" cy="952560"/>
                  <a:chOff x="3699000" y="4156920"/>
                  <a:chExt cx="965520" cy="95256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16200000">
                    <a:off x="3974760" y="44226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699000" y="415692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3353760" y="3816720"/>
                  <a:ext cx="689760" cy="680400"/>
                  <a:chOff x="3353760" y="3816720"/>
                  <a:chExt cx="689760" cy="68040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335376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16200000">
                    <a:off x="3491280" y="39466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4318920" y="3816720"/>
                  <a:ext cx="689760" cy="680400"/>
                  <a:chOff x="4318920" y="3816720"/>
                  <a:chExt cx="689760" cy="68040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431892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16200000">
                    <a:off x="4456080" y="394632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3353760" y="4763880"/>
                  <a:ext cx="689760" cy="680400"/>
                  <a:chOff x="3353760" y="4763880"/>
                  <a:chExt cx="689760" cy="68040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>
                    <a:off x="335376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rot="16200000">
                    <a:off x="3491280" y="4893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"/>
                <p:cNvGrpSpPr/>
                <p:nvPr/>
              </p:nvGrpSpPr>
              <p:grpSpPr>
                <a:xfrm>
                  <a:off x="4318920" y="4763880"/>
                  <a:ext cx="689760" cy="680400"/>
                  <a:chOff x="4318920" y="4763880"/>
                  <a:chExt cx="689760" cy="68040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431892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rot="16200000">
                    <a:off x="4456080" y="4893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7" name=""/>
              <p:cNvGrpSpPr/>
              <p:nvPr/>
            </p:nvGrpSpPr>
            <p:grpSpPr>
              <a:xfrm>
                <a:off x="2391120" y="3816720"/>
                <a:ext cx="1654920" cy="1627560"/>
                <a:chOff x="2391120" y="3816720"/>
                <a:chExt cx="1654920" cy="1627560"/>
              </a:xfrm>
            </p:grpSpPr>
            <p:grpSp>
              <p:nvGrpSpPr>
                <p:cNvPr id="398" name=""/>
                <p:cNvGrpSpPr/>
                <p:nvPr/>
              </p:nvGrpSpPr>
              <p:grpSpPr>
                <a:xfrm>
                  <a:off x="2736360" y="4156920"/>
                  <a:ext cx="965520" cy="952560"/>
                  <a:chOff x="2736360" y="4156920"/>
                  <a:chExt cx="965520" cy="95256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rot="16200000">
                    <a:off x="3012120" y="44226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2736360" y="415692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2391120" y="3816720"/>
                  <a:ext cx="689760" cy="680400"/>
                  <a:chOff x="2391120" y="3816720"/>
                  <a:chExt cx="689760" cy="68040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>
                    <a:off x="239112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rot="16200000">
                    <a:off x="2528640" y="39466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3356280" y="3816720"/>
                  <a:ext cx="689760" cy="680400"/>
                  <a:chOff x="3356280" y="3816720"/>
                  <a:chExt cx="689760" cy="68040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>
                    <a:off x="335628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rot="16200000">
                    <a:off x="3493440" y="394632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2391120" y="4763880"/>
                  <a:ext cx="689760" cy="680400"/>
                  <a:chOff x="2391120" y="4763880"/>
                  <a:chExt cx="689760" cy="68040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239112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rot="16200000">
                    <a:off x="2528640" y="4893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3356280" y="4763880"/>
                  <a:ext cx="689760" cy="680400"/>
                  <a:chOff x="3356280" y="4763880"/>
                  <a:chExt cx="689760" cy="68040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>
                    <a:off x="335628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16200000">
                    <a:off x="3493440" y="4893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3" name=""/>
              <p:cNvGrpSpPr/>
              <p:nvPr/>
            </p:nvGrpSpPr>
            <p:grpSpPr>
              <a:xfrm>
                <a:off x="1428840" y="3816720"/>
                <a:ext cx="1654920" cy="1627560"/>
                <a:chOff x="1428840" y="3816720"/>
                <a:chExt cx="1654920" cy="1627560"/>
              </a:xfrm>
            </p:grpSpPr>
            <p:grpSp>
              <p:nvGrpSpPr>
                <p:cNvPr id="414" name=""/>
                <p:cNvGrpSpPr/>
                <p:nvPr/>
              </p:nvGrpSpPr>
              <p:grpSpPr>
                <a:xfrm>
                  <a:off x="1774080" y="4156920"/>
                  <a:ext cx="965520" cy="952560"/>
                  <a:chOff x="1774080" y="4156920"/>
                  <a:chExt cx="965520" cy="95256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rot="16200000">
                    <a:off x="2049840" y="44226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774080" y="415692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1428840" y="3816720"/>
                  <a:ext cx="689760" cy="680400"/>
                  <a:chOff x="1428840" y="3816720"/>
                  <a:chExt cx="689760" cy="68040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142884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rot="16200000">
                    <a:off x="1566360" y="39466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2394000" y="3816720"/>
                  <a:ext cx="689760" cy="680400"/>
                  <a:chOff x="2394000" y="3816720"/>
                  <a:chExt cx="689760" cy="68040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239400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rot="16200000">
                    <a:off x="2531160" y="394632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1428840" y="4763880"/>
                  <a:ext cx="689760" cy="680400"/>
                  <a:chOff x="1428840" y="4763880"/>
                  <a:chExt cx="689760" cy="68040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142884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rot="16200000">
                    <a:off x="1566360" y="4893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"/>
                <p:cNvGrpSpPr/>
                <p:nvPr/>
              </p:nvGrpSpPr>
              <p:grpSpPr>
                <a:xfrm>
                  <a:off x="2394000" y="4763880"/>
                  <a:ext cx="689760" cy="680400"/>
                  <a:chOff x="2394000" y="4763880"/>
                  <a:chExt cx="689760" cy="68040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>
                    <a:off x="239400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rot="16200000">
                    <a:off x="2531160" y="4893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29" name=""/>
            <p:cNvGrpSpPr/>
            <p:nvPr/>
          </p:nvGrpSpPr>
          <p:grpSpPr>
            <a:xfrm>
              <a:off x="4324320" y="3816720"/>
              <a:ext cx="3579120" cy="1627560"/>
              <a:chOff x="4324320" y="3816720"/>
              <a:chExt cx="3579120" cy="1627560"/>
            </a:xfrm>
          </p:grpSpPr>
          <p:grpSp>
            <p:nvGrpSpPr>
              <p:cNvPr id="430" name=""/>
              <p:cNvGrpSpPr/>
              <p:nvPr/>
            </p:nvGrpSpPr>
            <p:grpSpPr>
              <a:xfrm>
                <a:off x="6248880" y="3816720"/>
                <a:ext cx="1654560" cy="1627560"/>
                <a:chOff x="6248880" y="3816720"/>
                <a:chExt cx="1654560" cy="1627560"/>
              </a:xfrm>
            </p:grpSpPr>
            <p:grpSp>
              <p:nvGrpSpPr>
                <p:cNvPr id="431" name=""/>
                <p:cNvGrpSpPr/>
                <p:nvPr/>
              </p:nvGrpSpPr>
              <p:grpSpPr>
                <a:xfrm>
                  <a:off x="6594120" y="4156920"/>
                  <a:ext cx="965520" cy="952560"/>
                  <a:chOff x="6594120" y="4156920"/>
                  <a:chExt cx="965520" cy="95256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rot="16200000">
                    <a:off x="6869880" y="44226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6594120" y="415692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6248880" y="3816720"/>
                  <a:ext cx="689760" cy="680400"/>
                  <a:chOff x="6248880" y="3816720"/>
                  <a:chExt cx="689760" cy="68040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>
                    <a:off x="624888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rot="16200000">
                    <a:off x="6386400" y="39466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7213680" y="3816720"/>
                  <a:ext cx="689760" cy="680400"/>
                  <a:chOff x="7213680" y="3816720"/>
                  <a:chExt cx="689760" cy="68040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>
                    <a:off x="721368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rot="16200000">
                    <a:off x="7350840" y="394632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6248880" y="4763880"/>
                  <a:ext cx="689760" cy="680400"/>
                  <a:chOff x="6248880" y="4763880"/>
                  <a:chExt cx="689760" cy="68040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>
                    <a:off x="624888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rot="16200000">
                    <a:off x="6386400" y="4893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7213680" y="4763880"/>
                  <a:ext cx="689760" cy="680400"/>
                  <a:chOff x="7213680" y="4763880"/>
                  <a:chExt cx="689760" cy="6804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721368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rot="16200000">
                    <a:off x="7350840" y="4893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6" name=""/>
              <p:cNvGrpSpPr/>
              <p:nvPr/>
            </p:nvGrpSpPr>
            <p:grpSpPr>
              <a:xfrm>
                <a:off x="5286600" y="3816720"/>
                <a:ext cx="1654560" cy="1627560"/>
                <a:chOff x="5286600" y="3816720"/>
                <a:chExt cx="1654560" cy="1627560"/>
              </a:xfrm>
            </p:grpSpPr>
            <p:grpSp>
              <p:nvGrpSpPr>
                <p:cNvPr id="447" name=""/>
                <p:cNvGrpSpPr/>
                <p:nvPr/>
              </p:nvGrpSpPr>
              <p:grpSpPr>
                <a:xfrm>
                  <a:off x="5631840" y="4156920"/>
                  <a:ext cx="965520" cy="952560"/>
                  <a:chOff x="5631840" y="4156920"/>
                  <a:chExt cx="965520" cy="95256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 rot="16200000">
                    <a:off x="5907600" y="44226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5631840" y="415692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"/>
                <p:cNvGrpSpPr/>
                <p:nvPr/>
              </p:nvGrpSpPr>
              <p:grpSpPr>
                <a:xfrm>
                  <a:off x="5286600" y="3816720"/>
                  <a:ext cx="689760" cy="680400"/>
                  <a:chOff x="5286600" y="3816720"/>
                  <a:chExt cx="689760" cy="68040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>
                    <a:off x="528660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rot="16200000">
                    <a:off x="5424120" y="39466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" name=""/>
                <p:cNvGrpSpPr/>
                <p:nvPr/>
              </p:nvGrpSpPr>
              <p:grpSpPr>
                <a:xfrm>
                  <a:off x="6251400" y="3816720"/>
                  <a:ext cx="689760" cy="680400"/>
                  <a:chOff x="6251400" y="3816720"/>
                  <a:chExt cx="689760" cy="68040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625140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rot="16200000">
                    <a:off x="6388560" y="394632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5286600" y="4763880"/>
                  <a:ext cx="689760" cy="680400"/>
                  <a:chOff x="5286600" y="4763880"/>
                  <a:chExt cx="689760" cy="68040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>
                    <a:off x="528660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rot="16200000">
                    <a:off x="5424120" y="4893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"/>
                <p:cNvGrpSpPr/>
                <p:nvPr/>
              </p:nvGrpSpPr>
              <p:grpSpPr>
                <a:xfrm>
                  <a:off x="6251400" y="4763880"/>
                  <a:ext cx="689760" cy="680400"/>
                  <a:chOff x="6251400" y="4763880"/>
                  <a:chExt cx="689760" cy="68040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625140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rot="16200000">
                    <a:off x="6388560" y="4893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2" name=""/>
              <p:cNvGrpSpPr/>
              <p:nvPr/>
            </p:nvGrpSpPr>
            <p:grpSpPr>
              <a:xfrm>
                <a:off x="4324320" y="3816720"/>
                <a:ext cx="1654560" cy="1627560"/>
                <a:chOff x="4324320" y="3816720"/>
                <a:chExt cx="1654560" cy="1627560"/>
              </a:xfrm>
            </p:grpSpPr>
            <p:grpSp>
              <p:nvGrpSpPr>
                <p:cNvPr id="463" name=""/>
                <p:cNvGrpSpPr/>
                <p:nvPr/>
              </p:nvGrpSpPr>
              <p:grpSpPr>
                <a:xfrm>
                  <a:off x="4669560" y="4156920"/>
                  <a:ext cx="965520" cy="952560"/>
                  <a:chOff x="4669560" y="4156920"/>
                  <a:chExt cx="965520" cy="95256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 rot="16200000">
                    <a:off x="4945320" y="44226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4669560" y="415692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4324320" y="3816720"/>
                  <a:ext cx="689760" cy="680400"/>
                  <a:chOff x="4324320" y="3816720"/>
                  <a:chExt cx="689760" cy="68040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>
                    <a:off x="432432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rot="16200000">
                    <a:off x="4461840" y="39466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5289120" y="3816720"/>
                  <a:ext cx="689760" cy="680400"/>
                  <a:chOff x="5289120" y="3816720"/>
                  <a:chExt cx="689760" cy="68040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>
                    <a:off x="528912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rot="16200000">
                    <a:off x="5426280" y="394632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4324320" y="4763880"/>
                  <a:ext cx="689760" cy="680400"/>
                  <a:chOff x="4324320" y="4763880"/>
                  <a:chExt cx="689760" cy="6804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432432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6200000">
                    <a:off x="4461840" y="4893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5289120" y="4763880"/>
                  <a:ext cx="689760" cy="680400"/>
                  <a:chOff x="5289120" y="4763880"/>
                  <a:chExt cx="689760" cy="68040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528912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6200000">
                    <a:off x="5426280" y="4893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78" name=""/>
          <p:cNvSpPr/>
          <p:nvPr/>
        </p:nvSpPr>
        <p:spPr>
          <a:xfrm>
            <a:off x="3679920" y="3184560"/>
            <a:ext cx="1936800" cy="1936800"/>
          </a:xfrm>
          <a:prstGeom prst="ellipse">
            <a:avLst/>
          </a:prstGeom>
          <a:solidFill>
            <a:srgbClr val="66ff66">
              <a:alpha val="4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024360" y="1557360"/>
            <a:ext cx="1414440" cy="1414440"/>
          </a:xfrm>
          <a:prstGeom prst="ellipse">
            <a:avLst/>
          </a:prstGeom>
          <a:solidFill>
            <a:srgbClr val="66ff66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28680" y="558972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de cône Cerenkov à 1,5m et 2m de la surface des P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16000" y="225360"/>
            <a:ext cx="650880" cy="65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16200000">
            <a:off x="2951280" y="333360"/>
            <a:ext cx="395280" cy="395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02880" y="3682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’’ (46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439800" y="3682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’’ (28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65338-A7D3-401C-8F49-9E06AD66E8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888480" y="321840"/>
            <a:ext cx="7832520" cy="5911920"/>
            <a:chOff x="888480" y="321840"/>
            <a:chExt cx="7832520" cy="5911920"/>
          </a:xfrm>
        </p:grpSpPr>
        <p:grpSp>
          <p:nvGrpSpPr>
            <p:cNvPr id="486" name=""/>
            <p:cNvGrpSpPr/>
            <p:nvPr/>
          </p:nvGrpSpPr>
          <p:grpSpPr>
            <a:xfrm>
              <a:off x="888480" y="1812960"/>
              <a:ext cx="2644560" cy="2901240"/>
              <a:chOff x="888480" y="1812960"/>
              <a:chExt cx="2644560" cy="2901240"/>
            </a:xfrm>
          </p:grpSpPr>
          <p:grpSp>
            <p:nvGrpSpPr>
              <p:cNvPr id="487" name=""/>
              <p:cNvGrpSpPr/>
              <p:nvPr/>
            </p:nvGrpSpPr>
            <p:grpSpPr>
              <a:xfrm>
                <a:off x="888840" y="1812960"/>
                <a:ext cx="2644200" cy="2396520"/>
                <a:chOff x="888840" y="1812960"/>
                <a:chExt cx="2644200" cy="2396520"/>
              </a:xfrm>
            </p:grpSpPr>
            <p:grpSp>
              <p:nvGrpSpPr>
                <p:cNvPr id="488" name=""/>
                <p:cNvGrpSpPr/>
                <p:nvPr/>
              </p:nvGrpSpPr>
              <p:grpSpPr>
                <a:xfrm>
                  <a:off x="899280" y="1815480"/>
                  <a:ext cx="1769400" cy="1900440"/>
                  <a:chOff x="899280" y="1815480"/>
                  <a:chExt cx="1769400" cy="190044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 flipV="1" rot="19825800">
                    <a:off x="1497960" y="24566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flipV="1" rot="19825800">
                    <a:off x="1878840" y="29332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flipV="1" rot="19825800">
                    <a:off x="1886040" y="19357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V="1" rot="19825800">
                    <a:off x="1019520" y="24274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flipV="1" rot="3625800">
                    <a:off x="1730880" y="25740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1763640" y="1812960"/>
                  <a:ext cx="1769400" cy="1900080"/>
                  <a:chOff x="1763640" y="1812960"/>
                  <a:chExt cx="1769400" cy="190008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 rot="19825800">
                    <a:off x="1937160" y="221040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rot="19825800">
                    <a:off x="1890360" y="19332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rot="19825800">
                    <a:off x="2750400" y="2438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19825800">
                    <a:off x="1883880" y="2930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 rot="14425800">
                    <a:off x="2296800" y="25513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" name=""/>
                <p:cNvGrpSpPr/>
                <p:nvPr/>
              </p:nvGrpSpPr>
              <p:grpSpPr>
                <a:xfrm>
                  <a:off x="888840" y="2309400"/>
                  <a:ext cx="1769400" cy="1900080"/>
                  <a:chOff x="888840" y="2309400"/>
                  <a:chExt cx="1769400" cy="190008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 rot="19825800">
                    <a:off x="1062360" y="27068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 rot="19825800">
                    <a:off x="1015560" y="2429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rot="19825800">
                    <a:off x="1875600" y="29350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19825800">
                    <a:off x="1009080" y="34268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rot="14425800">
                    <a:off x="1422000" y="30474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6" name=""/>
              <p:cNvGrpSpPr/>
              <p:nvPr/>
            </p:nvGrpSpPr>
            <p:grpSpPr>
              <a:xfrm>
                <a:off x="888480" y="2318400"/>
                <a:ext cx="2644560" cy="2395800"/>
                <a:chOff x="888480" y="2318400"/>
                <a:chExt cx="2644560" cy="2395800"/>
              </a:xfrm>
            </p:grpSpPr>
            <p:grpSp>
              <p:nvGrpSpPr>
                <p:cNvPr id="507" name=""/>
                <p:cNvGrpSpPr/>
                <p:nvPr/>
              </p:nvGrpSpPr>
              <p:grpSpPr>
                <a:xfrm>
                  <a:off x="1751400" y="2813040"/>
                  <a:ext cx="1769400" cy="1899000"/>
                  <a:chOff x="1751400" y="2813040"/>
                  <a:chExt cx="1769400" cy="1899000"/>
                </a:xfrm>
              </p:grpSpPr>
              <p:sp>
                <p:nvSpPr>
                  <p:cNvPr id="508" name=""/>
                  <p:cNvSpPr/>
                  <p:nvPr/>
                </p:nvSpPr>
                <p:spPr>
                  <a:xfrm rot="19825800">
                    <a:off x="1924920" y="32097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19825800">
                    <a:off x="1878480" y="29332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19825800">
                    <a:off x="2738160" y="3437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19825800">
                    <a:off x="1871640" y="3929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14425800">
                    <a:off x="2284920" y="35506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1763280" y="2318400"/>
                  <a:ext cx="1769760" cy="1899360"/>
                  <a:chOff x="1763280" y="2318400"/>
                  <a:chExt cx="1769760" cy="189936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flipV="1" rot="19825800">
                    <a:off x="2362320" y="295920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flipV="1" rot="19825800">
                    <a:off x="2742480" y="34351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V="1" rot="19825800">
                    <a:off x="2750400" y="2438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flipV="1" rot="19825800">
                    <a:off x="1883520" y="29300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flipV="1" rot="3625800">
                    <a:off x="2595240" y="30762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" name=""/>
                <p:cNvGrpSpPr/>
                <p:nvPr/>
              </p:nvGrpSpPr>
              <p:grpSpPr>
                <a:xfrm>
                  <a:off x="888480" y="2814480"/>
                  <a:ext cx="1769760" cy="1899720"/>
                  <a:chOff x="888480" y="2814480"/>
                  <a:chExt cx="1769760" cy="1899720"/>
                </a:xfrm>
              </p:grpSpPr>
              <p:sp>
                <p:nvSpPr>
                  <p:cNvPr id="520" name=""/>
                  <p:cNvSpPr/>
                  <p:nvPr/>
                </p:nvSpPr>
                <p:spPr>
                  <a:xfrm flipV="1" rot="19825800">
                    <a:off x="1487520" y="34556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flipV="1" rot="19825800">
                    <a:off x="1867680" y="39315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V="1" rot="19825800">
                    <a:off x="1875600" y="29347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V="1" rot="19825800">
                    <a:off x="1008720" y="34264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V="1" rot="3625800">
                    <a:off x="1720080" y="35726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25" name=""/>
            <p:cNvGrpSpPr/>
            <p:nvPr/>
          </p:nvGrpSpPr>
          <p:grpSpPr>
            <a:xfrm>
              <a:off x="2617200" y="1825200"/>
              <a:ext cx="2644920" cy="2900880"/>
              <a:chOff x="2617200" y="1825200"/>
              <a:chExt cx="2644920" cy="2900880"/>
            </a:xfrm>
          </p:grpSpPr>
          <p:grpSp>
            <p:nvGrpSpPr>
              <p:cNvPr id="526" name=""/>
              <p:cNvGrpSpPr/>
              <p:nvPr/>
            </p:nvGrpSpPr>
            <p:grpSpPr>
              <a:xfrm>
                <a:off x="2617200" y="1825200"/>
                <a:ext cx="2644560" cy="2395440"/>
                <a:chOff x="2617200" y="1825200"/>
                <a:chExt cx="2644560" cy="2395440"/>
              </a:xfrm>
            </p:grpSpPr>
            <p:grpSp>
              <p:nvGrpSpPr>
                <p:cNvPr id="527" name=""/>
                <p:cNvGrpSpPr/>
                <p:nvPr/>
              </p:nvGrpSpPr>
              <p:grpSpPr>
                <a:xfrm>
                  <a:off x="2628360" y="1827720"/>
                  <a:ext cx="1769400" cy="1899360"/>
                  <a:chOff x="2628360" y="1827720"/>
                  <a:chExt cx="1769400" cy="189936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 flipV="1" rot="19825800">
                    <a:off x="3227040" y="24685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V="1" rot="19825800">
                    <a:off x="3607560" y="29444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flipV="1" rot="19825800">
                    <a:off x="3615120" y="19479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V="1" rot="19825800">
                    <a:off x="2748600" y="24393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 flipV="1" rot="3625800">
                    <a:off x="3459960" y="25855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"/>
                <p:cNvGrpSpPr/>
                <p:nvPr/>
              </p:nvGrpSpPr>
              <p:grpSpPr>
                <a:xfrm>
                  <a:off x="3492360" y="1825200"/>
                  <a:ext cx="1769400" cy="1899000"/>
                  <a:chOff x="3492360" y="1825200"/>
                  <a:chExt cx="1769400" cy="189900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 rot="19825800">
                    <a:off x="3665880" y="22219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rot="19825800">
                    <a:off x="3619440" y="19454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rot="19825800">
                    <a:off x="4479120" y="24498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rot="19825800">
                    <a:off x="3612600" y="29415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rot="14425800">
                    <a:off x="4025880" y="25628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2617200" y="2321640"/>
                  <a:ext cx="1769760" cy="1899000"/>
                  <a:chOff x="2617200" y="2321640"/>
                  <a:chExt cx="1769760" cy="189900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 rot="19825800">
                    <a:off x="2791080" y="27183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9825800">
                    <a:off x="2744280" y="24418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9825800">
                    <a:off x="3604320" y="29462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9825800">
                    <a:off x="2737440" y="34380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4425800">
                    <a:off x="3151080" y="30592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5" name=""/>
              <p:cNvGrpSpPr/>
              <p:nvPr/>
            </p:nvGrpSpPr>
            <p:grpSpPr>
              <a:xfrm>
                <a:off x="2617560" y="2330280"/>
                <a:ext cx="2644560" cy="2395800"/>
                <a:chOff x="2617560" y="2330280"/>
                <a:chExt cx="2644560" cy="2395800"/>
              </a:xfrm>
            </p:grpSpPr>
            <p:grpSp>
              <p:nvGrpSpPr>
                <p:cNvPr id="546" name=""/>
                <p:cNvGrpSpPr/>
                <p:nvPr/>
              </p:nvGrpSpPr>
              <p:grpSpPr>
                <a:xfrm>
                  <a:off x="3480480" y="2824920"/>
                  <a:ext cx="1769400" cy="1899000"/>
                  <a:chOff x="3480480" y="2824920"/>
                  <a:chExt cx="1769400" cy="18990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9825800">
                    <a:off x="3654000" y="32216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9825800">
                    <a:off x="3607560" y="29451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9825800">
                    <a:off x="4467240" y="34495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9825800">
                    <a:off x="3600720" y="39412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4425800">
                    <a:off x="4014000" y="35625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3492360" y="2330280"/>
                  <a:ext cx="1769760" cy="1899360"/>
                  <a:chOff x="3492360" y="2330280"/>
                  <a:chExt cx="1769760" cy="189936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 flipV="1" rot="19825800">
                    <a:off x="4091400" y="29710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flipV="1" rot="19825800">
                    <a:off x="4471560" y="344700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 flipV="1" rot="19825800">
                    <a:off x="4479480" y="24505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flipV="1" rot="19825800">
                    <a:off x="3612600" y="29422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V="1" rot="3625800">
                    <a:off x="4323960" y="30880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"/>
                <p:cNvGrpSpPr/>
                <p:nvPr/>
              </p:nvGrpSpPr>
              <p:grpSpPr>
                <a:xfrm>
                  <a:off x="2617560" y="2826360"/>
                  <a:ext cx="1769760" cy="1899720"/>
                  <a:chOff x="2617560" y="2826360"/>
                  <a:chExt cx="1769760" cy="189972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 flipV="1" rot="19825800">
                    <a:off x="3216600" y="34675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V="1" rot="19825800">
                    <a:off x="3596760" y="39434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flipV="1" rot="19825800">
                    <a:off x="3604680" y="2946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V="1" rot="19825800">
                    <a:off x="2737800" y="34383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V="1" rot="3625800">
                    <a:off x="3449160" y="35845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64" name=""/>
            <p:cNvGrpSpPr/>
            <p:nvPr/>
          </p:nvGrpSpPr>
          <p:grpSpPr>
            <a:xfrm>
              <a:off x="4347000" y="1836720"/>
              <a:ext cx="2644920" cy="2900880"/>
              <a:chOff x="4347000" y="1836720"/>
              <a:chExt cx="2644920" cy="2900880"/>
            </a:xfrm>
          </p:grpSpPr>
          <p:grpSp>
            <p:nvGrpSpPr>
              <p:cNvPr id="565" name=""/>
              <p:cNvGrpSpPr/>
              <p:nvPr/>
            </p:nvGrpSpPr>
            <p:grpSpPr>
              <a:xfrm>
                <a:off x="4347000" y="1836720"/>
                <a:ext cx="2644560" cy="2395440"/>
                <a:chOff x="4347000" y="1836720"/>
                <a:chExt cx="2644560" cy="2395440"/>
              </a:xfrm>
            </p:grpSpPr>
            <p:grpSp>
              <p:nvGrpSpPr>
                <p:cNvPr id="566" name=""/>
                <p:cNvGrpSpPr/>
                <p:nvPr/>
              </p:nvGrpSpPr>
              <p:grpSpPr>
                <a:xfrm>
                  <a:off x="4357800" y="1839240"/>
                  <a:ext cx="1769760" cy="1899360"/>
                  <a:chOff x="4357800" y="1839240"/>
                  <a:chExt cx="1769760" cy="189936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 flipV="1" rot="19825800">
                    <a:off x="4956840" y="24800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V="1" rot="19825800">
                    <a:off x="5337000" y="29559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V="1" rot="19825800">
                    <a:off x="5344920" y="19594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V="1" rot="19825800">
                    <a:off x="4478040" y="24512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V="1" rot="3625800">
                    <a:off x="5189400" y="25970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5221800" y="1836720"/>
                  <a:ext cx="1769760" cy="1899360"/>
                  <a:chOff x="5221800" y="1836720"/>
                  <a:chExt cx="1769760" cy="189936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 rot="19825800">
                    <a:off x="5395680" y="22334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19825800">
                    <a:off x="5348880" y="19569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19825800">
                    <a:off x="6208920" y="24616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19825800">
                    <a:off x="5342040" y="29534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14425800">
                    <a:off x="5755680" y="25743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4347000" y="2333160"/>
                  <a:ext cx="1769760" cy="1899000"/>
                  <a:chOff x="4347000" y="2333160"/>
                  <a:chExt cx="1769760" cy="189900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 rot="19825800">
                    <a:off x="4520880" y="27298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rot="19825800">
                    <a:off x="4474080" y="245340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9825800">
                    <a:off x="5334120" y="29577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9825800">
                    <a:off x="4467240" y="34495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4425800">
                    <a:off x="4880520" y="30708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4" name=""/>
              <p:cNvGrpSpPr/>
              <p:nvPr/>
            </p:nvGrpSpPr>
            <p:grpSpPr>
              <a:xfrm>
                <a:off x="4347360" y="2341800"/>
                <a:ext cx="2644560" cy="2395800"/>
                <a:chOff x="4347360" y="2341800"/>
                <a:chExt cx="2644560" cy="2395800"/>
              </a:xfrm>
            </p:grpSpPr>
            <p:grpSp>
              <p:nvGrpSpPr>
                <p:cNvPr id="585" name=""/>
                <p:cNvGrpSpPr/>
                <p:nvPr/>
              </p:nvGrpSpPr>
              <p:grpSpPr>
                <a:xfrm>
                  <a:off x="5209920" y="2836440"/>
                  <a:ext cx="1769760" cy="1899360"/>
                  <a:chOff x="5209920" y="2836440"/>
                  <a:chExt cx="1769760" cy="189936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 rot="19825800">
                    <a:off x="5383800" y="32331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rot="19825800">
                    <a:off x="5337000" y="29566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rot="19825800">
                    <a:off x="6197040" y="3461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rot="19825800">
                    <a:off x="5330160" y="39531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rot="14425800">
                    <a:off x="5743800" y="35740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5222160" y="2341800"/>
                  <a:ext cx="1769760" cy="1899360"/>
                  <a:chOff x="5222160" y="2341800"/>
                  <a:chExt cx="1769760" cy="189936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 flipV="1" rot="19825800">
                    <a:off x="5820840" y="298260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V="1" rot="19825800">
                    <a:off x="6201360" y="34585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V="1" rot="19825800">
                    <a:off x="6209280" y="24620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V="1" rot="19825800">
                    <a:off x="5342400" y="29538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V="1" rot="3625800">
                    <a:off x="6053760" y="30996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7" name=""/>
                <p:cNvGrpSpPr/>
                <p:nvPr/>
              </p:nvGrpSpPr>
              <p:grpSpPr>
                <a:xfrm>
                  <a:off x="4347360" y="2838240"/>
                  <a:ext cx="1769400" cy="1899360"/>
                  <a:chOff x="4347360" y="2838240"/>
                  <a:chExt cx="1769400" cy="189936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 flipV="1" rot="19825800">
                    <a:off x="4946040" y="34790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V="1" rot="19825800">
                    <a:off x="5326560" y="39549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V="1" rot="19825800">
                    <a:off x="5334120" y="29584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V="1" rot="19825800">
                    <a:off x="4467600" y="34502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V="1" rot="3625800">
                    <a:off x="5178960" y="35960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03" name=""/>
            <p:cNvGrpSpPr/>
            <p:nvPr/>
          </p:nvGrpSpPr>
          <p:grpSpPr>
            <a:xfrm>
              <a:off x="6076080" y="1848240"/>
              <a:ext cx="2644920" cy="2900880"/>
              <a:chOff x="6076080" y="1848240"/>
              <a:chExt cx="2644920" cy="2900880"/>
            </a:xfrm>
          </p:grpSpPr>
          <p:grpSp>
            <p:nvGrpSpPr>
              <p:cNvPr id="604" name=""/>
              <p:cNvGrpSpPr/>
              <p:nvPr/>
            </p:nvGrpSpPr>
            <p:grpSpPr>
              <a:xfrm>
                <a:off x="6076080" y="1848240"/>
                <a:ext cx="2644560" cy="2395440"/>
                <a:chOff x="6076080" y="1848240"/>
                <a:chExt cx="2644560" cy="2395440"/>
              </a:xfrm>
            </p:grpSpPr>
            <p:grpSp>
              <p:nvGrpSpPr>
                <p:cNvPr id="605" name=""/>
                <p:cNvGrpSpPr/>
                <p:nvPr/>
              </p:nvGrpSpPr>
              <p:grpSpPr>
                <a:xfrm>
                  <a:off x="6087240" y="1850400"/>
                  <a:ext cx="1769400" cy="1899720"/>
                  <a:chOff x="6087240" y="1850400"/>
                  <a:chExt cx="1769400" cy="189972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 flipV="1" rot="19825800">
                    <a:off x="6685920" y="24915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flipV="1" rot="19825800">
                    <a:off x="7066080" y="29674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V="1" rot="19825800">
                    <a:off x="7074000" y="1970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V="1" rot="19825800">
                    <a:off x="6207480" y="2462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flipV="1" rot="3625800">
                    <a:off x="6918840" y="26085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6951240" y="1848240"/>
                  <a:ext cx="1769400" cy="1899000"/>
                  <a:chOff x="6951240" y="1848240"/>
                  <a:chExt cx="1769400" cy="189900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rot="19825800">
                    <a:off x="7124760" y="22449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9825800">
                    <a:off x="7077960" y="19684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9825800">
                    <a:off x="7938000" y="24728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9825800">
                    <a:off x="7071480" y="2964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4425800">
                    <a:off x="7484760" y="25858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6076080" y="2344680"/>
                  <a:ext cx="1769760" cy="1899000"/>
                  <a:chOff x="6076080" y="2344680"/>
                  <a:chExt cx="1769760" cy="189900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rot="19825800">
                    <a:off x="6249960" y="27410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19825800">
                    <a:off x="6203160" y="24649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rot="19825800">
                    <a:off x="7063200" y="29692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rot="19825800">
                    <a:off x="6196320" y="34610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rot="14425800">
                    <a:off x="6609960" y="30823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3" name=""/>
              <p:cNvGrpSpPr/>
              <p:nvPr/>
            </p:nvGrpSpPr>
            <p:grpSpPr>
              <a:xfrm>
                <a:off x="6076440" y="2353320"/>
                <a:ext cx="2644560" cy="2395800"/>
                <a:chOff x="6076440" y="2353320"/>
                <a:chExt cx="2644560" cy="2395800"/>
              </a:xfrm>
            </p:grpSpPr>
            <p:grpSp>
              <p:nvGrpSpPr>
                <p:cNvPr id="624" name=""/>
                <p:cNvGrpSpPr/>
                <p:nvPr/>
              </p:nvGrpSpPr>
              <p:grpSpPr>
                <a:xfrm>
                  <a:off x="6939360" y="2847960"/>
                  <a:ext cx="1769400" cy="1899000"/>
                  <a:chOff x="6939360" y="2847960"/>
                  <a:chExt cx="1769400" cy="1899000"/>
                </a:xfrm>
              </p:grpSpPr>
              <p:sp>
                <p:nvSpPr>
                  <p:cNvPr id="625" name=""/>
                  <p:cNvSpPr/>
                  <p:nvPr/>
                </p:nvSpPr>
                <p:spPr>
                  <a:xfrm rot="19825800">
                    <a:off x="7112880" y="32446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rot="19825800">
                    <a:off x="7066440" y="296820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rot="19825800">
                    <a:off x="7926120" y="34725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rot="19825800">
                    <a:off x="7059600" y="39643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rot="14425800">
                    <a:off x="7472880" y="35856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6951240" y="2353320"/>
                  <a:ext cx="1769760" cy="1899360"/>
                  <a:chOff x="6951240" y="2353320"/>
                  <a:chExt cx="1769760" cy="189936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 flipV="1" rot="19825800">
                    <a:off x="7550280" y="29941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flipV="1" rot="19825800">
                    <a:off x="7930440" y="34700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V="1" rot="19825800">
                    <a:off x="7938360" y="24735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 flipV="1" rot="19825800">
                    <a:off x="7071480" y="29653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 flipV="1" rot="3625800">
                    <a:off x="7782840" y="31111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6" name=""/>
                <p:cNvGrpSpPr/>
                <p:nvPr/>
              </p:nvGrpSpPr>
              <p:grpSpPr>
                <a:xfrm>
                  <a:off x="6076440" y="2849400"/>
                  <a:ext cx="1769760" cy="1899720"/>
                  <a:chOff x="6076440" y="2849400"/>
                  <a:chExt cx="1769760" cy="189972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 flipV="1" rot="19825800">
                    <a:off x="6675480" y="34905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V="1" rot="19825800">
                    <a:off x="7055640" y="39664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V="1" rot="19825800">
                    <a:off x="7063560" y="2969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flipV="1" rot="19825800">
                    <a:off x="6196680" y="3461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V="1" rot="3625800">
                    <a:off x="6908040" y="36075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42" name=""/>
            <p:cNvGrpSpPr/>
            <p:nvPr/>
          </p:nvGrpSpPr>
          <p:grpSpPr>
            <a:xfrm>
              <a:off x="1740600" y="3315600"/>
              <a:ext cx="2644920" cy="2900880"/>
              <a:chOff x="1740600" y="3315600"/>
              <a:chExt cx="2644920" cy="2900880"/>
            </a:xfrm>
          </p:grpSpPr>
          <p:grpSp>
            <p:nvGrpSpPr>
              <p:cNvPr id="643" name=""/>
              <p:cNvGrpSpPr/>
              <p:nvPr/>
            </p:nvGrpSpPr>
            <p:grpSpPr>
              <a:xfrm>
                <a:off x="1740600" y="3315600"/>
                <a:ext cx="2644560" cy="2395440"/>
                <a:chOff x="1740600" y="3315600"/>
                <a:chExt cx="2644560" cy="2395440"/>
              </a:xfrm>
            </p:grpSpPr>
            <p:grpSp>
              <p:nvGrpSpPr>
                <p:cNvPr id="644" name=""/>
                <p:cNvGrpSpPr/>
                <p:nvPr/>
              </p:nvGrpSpPr>
              <p:grpSpPr>
                <a:xfrm>
                  <a:off x="1751760" y="3317760"/>
                  <a:ext cx="1769400" cy="1899720"/>
                  <a:chOff x="1751760" y="3317760"/>
                  <a:chExt cx="1769400" cy="189972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 flipV="1" rot="19825800">
                    <a:off x="2350440" y="39589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flipV="1" rot="19825800">
                    <a:off x="2730600" y="44348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flipV="1" rot="19825800">
                    <a:off x="2738520" y="34380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V="1" rot="19825800">
                    <a:off x="1872000" y="39297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flipV="1" rot="3625800">
                    <a:off x="2583360" y="40759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0" name=""/>
                <p:cNvGrpSpPr/>
                <p:nvPr/>
              </p:nvGrpSpPr>
              <p:grpSpPr>
                <a:xfrm>
                  <a:off x="2615400" y="3315600"/>
                  <a:ext cx="1769760" cy="1899000"/>
                  <a:chOff x="2615400" y="3315600"/>
                  <a:chExt cx="1769760" cy="189900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 rot="19825800">
                    <a:off x="2789280" y="37123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19825800">
                    <a:off x="2742480" y="34358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 rot="19825800">
                    <a:off x="3602520" y="39402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rot="19825800">
                    <a:off x="2735640" y="44319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 rot="14425800">
                    <a:off x="3149280" y="40532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6" name=""/>
                <p:cNvGrpSpPr/>
                <p:nvPr/>
              </p:nvGrpSpPr>
              <p:grpSpPr>
                <a:xfrm>
                  <a:off x="1740600" y="3812040"/>
                  <a:ext cx="1769760" cy="1899000"/>
                  <a:chOff x="1740600" y="3812040"/>
                  <a:chExt cx="1769760" cy="1899000"/>
                </a:xfrm>
              </p:grpSpPr>
              <p:sp>
                <p:nvSpPr>
                  <p:cNvPr id="657" name=""/>
                  <p:cNvSpPr/>
                  <p:nvPr/>
                </p:nvSpPr>
                <p:spPr>
                  <a:xfrm rot="19825800">
                    <a:off x="1914480" y="42087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rot="19825800">
                    <a:off x="1867680" y="39322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 rot="19825800">
                    <a:off x="2727720" y="4436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 rot="19825800">
                    <a:off x="1860840" y="4928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rot="14425800">
                    <a:off x="2274480" y="45496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2" name=""/>
              <p:cNvGrpSpPr/>
              <p:nvPr/>
            </p:nvGrpSpPr>
            <p:grpSpPr>
              <a:xfrm>
                <a:off x="1740960" y="3820680"/>
                <a:ext cx="2644560" cy="2395800"/>
                <a:chOff x="1740960" y="3820680"/>
                <a:chExt cx="2644560" cy="2395800"/>
              </a:xfrm>
            </p:grpSpPr>
            <p:grpSp>
              <p:nvGrpSpPr>
                <p:cNvPr id="663" name=""/>
                <p:cNvGrpSpPr/>
                <p:nvPr/>
              </p:nvGrpSpPr>
              <p:grpSpPr>
                <a:xfrm>
                  <a:off x="2603520" y="4315320"/>
                  <a:ext cx="1769760" cy="1899000"/>
                  <a:chOff x="2603520" y="4315320"/>
                  <a:chExt cx="1769760" cy="1899000"/>
                </a:xfrm>
              </p:grpSpPr>
              <p:sp>
                <p:nvSpPr>
                  <p:cNvPr id="664" name=""/>
                  <p:cNvSpPr/>
                  <p:nvPr/>
                </p:nvSpPr>
                <p:spPr>
                  <a:xfrm rot="19825800">
                    <a:off x="2777400" y="47120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 rot="19825800">
                    <a:off x="2730600" y="44355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 rot="19825800">
                    <a:off x="3590640" y="49399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 rot="19825800">
                    <a:off x="2723760" y="54316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 rot="14425800">
                    <a:off x="3137400" y="50529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9" name=""/>
                <p:cNvGrpSpPr/>
                <p:nvPr/>
              </p:nvGrpSpPr>
              <p:grpSpPr>
                <a:xfrm>
                  <a:off x="2615760" y="3820680"/>
                  <a:ext cx="1769760" cy="1899360"/>
                  <a:chOff x="2615760" y="3820680"/>
                  <a:chExt cx="1769760" cy="189936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 flipV="1" rot="19825800">
                    <a:off x="3214800" y="44614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 flipV="1" rot="19825800">
                    <a:off x="3594960" y="493740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 flipV="1" rot="19825800">
                    <a:off x="3602880" y="39409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 flipV="1" rot="19825800">
                    <a:off x="2736000" y="44326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 flipV="1" rot="3625800">
                    <a:off x="3447360" y="45784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5" name=""/>
                <p:cNvGrpSpPr/>
                <p:nvPr/>
              </p:nvGrpSpPr>
              <p:grpSpPr>
                <a:xfrm>
                  <a:off x="1740960" y="4316760"/>
                  <a:ext cx="1769760" cy="1899720"/>
                  <a:chOff x="1740960" y="4316760"/>
                  <a:chExt cx="1769760" cy="1899720"/>
                </a:xfrm>
              </p:grpSpPr>
              <p:sp>
                <p:nvSpPr>
                  <p:cNvPr id="676" name=""/>
                  <p:cNvSpPr/>
                  <p:nvPr/>
                </p:nvSpPr>
                <p:spPr>
                  <a:xfrm flipV="1" rot="19825800">
                    <a:off x="2339640" y="49579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flipV="1" rot="19825800">
                    <a:off x="2720160" y="54338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 flipV="1" rot="19825800">
                    <a:off x="2728080" y="44370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flipV="1" rot="19825800">
                    <a:off x="1861200" y="49287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 flipV="1" rot="3625800">
                    <a:off x="2572560" y="50749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81" name=""/>
            <p:cNvGrpSpPr/>
            <p:nvPr/>
          </p:nvGrpSpPr>
          <p:grpSpPr>
            <a:xfrm>
              <a:off x="3480840" y="3321000"/>
              <a:ext cx="2644560" cy="2900520"/>
              <a:chOff x="3480840" y="3321000"/>
              <a:chExt cx="2644560" cy="2900520"/>
            </a:xfrm>
          </p:grpSpPr>
          <p:grpSp>
            <p:nvGrpSpPr>
              <p:cNvPr id="682" name=""/>
              <p:cNvGrpSpPr/>
              <p:nvPr/>
            </p:nvGrpSpPr>
            <p:grpSpPr>
              <a:xfrm>
                <a:off x="3480840" y="3321000"/>
                <a:ext cx="2644560" cy="2395440"/>
                <a:chOff x="3480840" y="3321000"/>
                <a:chExt cx="2644560" cy="2395440"/>
              </a:xfrm>
            </p:grpSpPr>
            <p:grpSp>
              <p:nvGrpSpPr>
                <p:cNvPr id="683" name=""/>
                <p:cNvGrpSpPr/>
                <p:nvPr/>
              </p:nvGrpSpPr>
              <p:grpSpPr>
                <a:xfrm>
                  <a:off x="3491640" y="3323160"/>
                  <a:ext cx="1769760" cy="1899360"/>
                  <a:chOff x="3491640" y="3323160"/>
                  <a:chExt cx="1769760" cy="1899360"/>
                </a:xfrm>
              </p:grpSpPr>
              <p:sp>
                <p:nvSpPr>
                  <p:cNvPr id="684" name=""/>
                  <p:cNvSpPr/>
                  <p:nvPr/>
                </p:nvSpPr>
                <p:spPr>
                  <a:xfrm flipV="1" rot="19825800">
                    <a:off x="4090680" y="39643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 flipV="1" rot="19825800">
                    <a:off x="4470840" y="44398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V="1" rot="19825800">
                    <a:off x="4478760" y="3443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flipV="1" rot="19825800">
                    <a:off x="3611880" y="39351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 flipV="1" rot="3625800">
                    <a:off x="4323240" y="40809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9" name=""/>
                <p:cNvGrpSpPr/>
                <p:nvPr/>
              </p:nvGrpSpPr>
              <p:grpSpPr>
                <a:xfrm>
                  <a:off x="4355640" y="3321000"/>
                  <a:ext cx="1769760" cy="1899000"/>
                  <a:chOff x="4355640" y="3321000"/>
                  <a:chExt cx="1769760" cy="18990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 rot="19825800">
                    <a:off x="4529520" y="37173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 rot="19825800">
                    <a:off x="4482720" y="34412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rot="19825800">
                    <a:off x="5342760" y="3945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rot="19825800">
                    <a:off x="4475880" y="44373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rot="14425800">
                    <a:off x="4889160" y="40582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5" name=""/>
                <p:cNvGrpSpPr/>
                <p:nvPr/>
              </p:nvGrpSpPr>
              <p:grpSpPr>
                <a:xfrm>
                  <a:off x="3480840" y="3817080"/>
                  <a:ext cx="1769760" cy="1899360"/>
                  <a:chOff x="3480840" y="3817080"/>
                  <a:chExt cx="1769760" cy="1899360"/>
                </a:xfrm>
              </p:grpSpPr>
              <p:sp>
                <p:nvSpPr>
                  <p:cNvPr id="696" name=""/>
                  <p:cNvSpPr/>
                  <p:nvPr/>
                </p:nvSpPr>
                <p:spPr>
                  <a:xfrm rot="19825800">
                    <a:off x="3654360" y="421380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rot="19825800">
                    <a:off x="3607920" y="39373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 rot="19825800">
                    <a:off x="4467960" y="44420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rot="19825800">
                    <a:off x="3601080" y="49338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 rot="14425800">
                    <a:off x="4014360" y="45547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1" name=""/>
              <p:cNvGrpSpPr/>
              <p:nvPr/>
            </p:nvGrpSpPr>
            <p:grpSpPr>
              <a:xfrm>
                <a:off x="3481200" y="3825720"/>
                <a:ext cx="2644200" cy="2395800"/>
                <a:chOff x="3481200" y="3825720"/>
                <a:chExt cx="2644200" cy="2395800"/>
              </a:xfrm>
            </p:grpSpPr>
            <p:grpSp>
              <p:nvGrpSpPr>
                <p:cNvPr id="702" name=""/>
                <p:cNvGrpSpPr/>
                <p:nvPr/>
              </p:nvGrpSpPr>
              <p:grpSpPr>
                <a:xfrm>
                  <a:off x="4343760" y="4320720"/>
                  <a:ext cx="1769760" cy="1899000"/>
                  <a:chOff x="4343760" y="4320720"/>
                  <a:chExt cx="1769760" cy="1899000"/>
                </a:xfrm>
              </p:grpSpPr>
              <p:sp>
                <p:nvSpPr>
                  <p:cNvPr id="703" name=""/>
                  <p:cNvSpPr/>
                  <p:nvPr/>
                </p:nvSpPr>
                <p:spPr>
                  <a:xfrm rot="19825800">
                    <a:off x="4517640" y="47170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 rot="19825800">
                    <a:off x="4470840" y="44409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 rot="19825800">
                    <a:off x="5330880" y="49453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 rot="19825800">
                    <a:off x="4464000" y="54370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 rot="14425800">
                    <a:off x="4877640" y="50580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8" name=""/>
                <p:cNvGrpSpPr/>
                <p:nvPr/>
              </p:nvGrpSpPr>
              <p:grpSpPr>
                <a:xfrm>
                  <a:off x="4356000" y="3825720"/>
                  <a:ext cx="1769400" cy="1899360"/>
                  <a:chOff x="4356000" y="3825720"/>
                  <a:chExt cx="1769400" cy="1899360"/>
                </a:xfrm>
              </p:grpSpPr>
              <p:sp>
                <p:nvSpPr>
                  <p:cNvPr id="709" name=""/>
                  <p:cNvSpPr/>
                  <p:nvPr/>
                </p:nvSpPr>
                <p:spPr>
                  <a:xfrm flipV="1" rot="19825800">
                    <a:off x="4954680" y="44668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 flipV="1" rot="19825800">
                    <a:off x="5335200" y="49424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 flipV="1" rot="19825800">
                    <a:off x="5342760" y="39459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 flipV="1" rot="19825800">
                    <a:off x="4476240" y="44377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 flipV="1" rot="3625800">
                    <a:off x="5187600" y="45838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4" name=""/>
                <p:cNvGrpSpPr/>
                <p:nvPr/>
              </p:nvGrpSpPr>
              <p:grpSpPr>
                <a:xfrm>
                  <a:off x="3481200" y="4322160"/>
                  <a:ext cx="1769400" cy="1899360"/>
                  <a:chOff x="3481200" y="4322160"/>
                  <a:chExt cx="1769400" cy="1899360"/>
                </a:xfrm>
              </p:grpSpPr>
              <p:sp>
                <p:nvSpPr>
                  <p:cNvPr id="715" name=""/>
                  <p:cNvSpPr/>
                  <p:nvPr/>
                </p:nvSpPr>
                <p:spPr>
                  <a:xfrm flipV="1" rot="19825800">
                    <a:off x="4079880" y="49633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 flipV="1" rot="19825800">
                    <a:off x="4460400" y="54388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 flipV="1" rot="19825800">
                    <a:off x="4467960" y="4442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 flipV="1" rot="19825800">
                    <a:off x="3601440" y="49341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 flipV="1" rot="3625800">
                    <a:off x="4312800" y="50799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20" name=""/>
            <p:cNvGrpSpPr/>
            <p:nvPr/>
          </p:nvGrpSpPr>
          <p:grpSpPr>
            <a:xfrm>
              <a:off x="5209200" y="3333240"/>
              <a:ext cx="2644920" cy="2900520"/>
              <a:chOff x="5209200" y="3333240"/>
              <a:chExt cx="2644920" cy="2900520"/>
            </a:xfrm>
          </p:grpSpPr>
          <p:grpSp>
            <p:nvGrpSpPr>
              <p:cNvPr id="721" name=""/>
              <p:cNvGrpSpPr/>
              <p:nvPr/>
            </p:nvGrpSpPr>
            <p:grpSpPr>
              <a:xfrm>
                <a:off x="5209200" y="3333240"/>
                <a:ext cx="2644560" cy="2395440"/>
                <a:chOff x="5209200" y="3333240"/>
                <a:chExt cx="2644560" cy="2395440"/>
              </a:xfrm>
            </p:grpSpPr>
            <p:grpSp>
              <p:nvGrpSpPr>
                <p:cNvPr id="722" name=""/>
                <p:cNvGrpSpPr/>
                <p:nvPr/>
              </p:nvGrpSpPr>
              <p:grpSpPr>
                <a:xfrm>
                  <a:off x="5220360" y="3335400"/>
                  <a:ext cx="1769400" cy="1899360"/>
                  <a:chOff x="5220360" y="3335400"/>
                  <a:chExt cx="1769400" cy="1899360"/>
                </a:xfrm>
              </p:grpSpPr>
              <p:sp>
                <p:nvSpPr>
                  <p:cNvPr id="723" name=""/>
                  <p:cNvSpPr/>
                  <p:nvPr/>
                </p:nvSpPr>
                <p:spPr>
                  <a:xfrm flipV="1" rot="19825800">
                    <a:off x="5819040" y="39765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 flipV="1" rot="19825800">
                    <a:off x="6199200" y="44521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V="1" rot="19825800">
                    <a:off x="6207120" y="3455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flipV="1" rot="19825800">
                    <a:off x="5340600" y="3947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 flipV="1" rot="3625800">
                    <a:off x="6051960" y="40935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8" name=""/>
                <p:cNvGrpSpPr/>
                <p:nvPr/>
              </p:nvGrpSpPr>
              <p:grpSpPr>
                <a:xfrm>
                  <a:off x="6084000" y="3333240"/>
                  <a:ext cx="1769760" cy="1899000"/>
                  <a:chOff x="6084000" y="3333240"/>
                  <a:chExt cx="1769760" cy="1899000"/>
                </a:xfrm>
              </p:grpSpPr>
              <p:sp>
                <p:nvSpPr>
                  <p:cNvPr id="729" name=""/>
                  <p:cNvSpPr/>
                  <p:nvPr/>
                </p:nvSpPr>
                <p:spPr>
                  <a:xfrm rot="19825800">
                    <a:off x="6257880" y="372960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 rot="19825800">
                    <a:off x="6211080" y="34534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 rot="19825800">
                    <a:off x="7071120" y="39578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rot="19825800">
                    <a:off x="6204240" y="4449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 rot="14425800">
                    <a:off x="6617880" y="40705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4" name=""/>
                <p:cNvGrpSpPr/>
                <p:nvPr/>
              </p:nvGrpSpPr>
              <p:grpSpPr>
                <a:xfrm>
                  <a:off x="5209200" y="3829680"/>
                  <a:ext cx="1769760" cy="1899000"/>
                  <a:chOff x="5209200" y="3829680"/>
                  <a:chExt cx="1769760" cy="1899000"/>
                </a:xfrm>
              </p:grpSpPr>
              <p:sp>
                <p:nvSpPr>
                  <p:cNvPr id="735" name=""/>
                  <p:cNvSpPr/>
                  <p:nvPr/>
                </p:nvSpPr>
                <p:spPr>
                  <a:xfrm rot="19825800">
                    <a:off x="5383080" y="42260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 rot="19825800">
                    <a:off x="5336280" y="39499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rot="19825800">
                    <a:off x="6196320" y="44542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 rot="19825800">
                    <a:off x="5329440" y="49460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 rot="14425800">
                    <a:off x="5743080" y="45669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0" name=""/>
              <p:cNvGrpSpPr/>
              <p:nvPr/>
            </p:nvGrpSpPr>
            <p:grpSpPr>
              <a:xfrm>
                <a:off x="5209560" y="3837960"/>
                <a:ext cx="2644560" cy="2395800"/>
                <a:chOff x="5209560" y="3837960"/>
                <a:chExt cx="2644560" cy="2395800"/>
              </a:xfrm>
            </p:grpSpPr>
            <p:grpSp>
              <p:nvGrpSpPr>
                <p:cNvPr id="741" name=""/>
                <p:cNvGrpSpPr/>
                <p:nvPr/>
              </p:nvGrpSpPr>
              <p:grpSpPr>
                <a:xfrm>
                  <a:off x="6072120" y="4332960"/>
                  <a:ext cx="1769760" cy="1899000"/>
                  <a:chOff x="6072120" y="4332960"/>
                  <a:chExt cx="1769760" cy="1899000"/>
                </a:xfrm>
              </p:grpSpPr>
              <p:sp>
                <p:nvSpPr>
                  <p:cNvPr id="742" name=""/>
                  <p:cNvSpPr/>
                  <p:nvPr/>
                </p:nvSpPr>
                <p:spPr>
                  <a:xfrm rot="19825800">
                    <a:off x="6246000" y="47293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 rot="19825800">
                    <a:off x="6199200" y="445320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 rot="19825800">
                    <a:off x="7059240" y="49575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 rot="19825800">
                    <a:off x="6192360" y="54493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 rot="14425800">
                    <a:off x="6606000" y="50702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7" name=""/>
                <p:cNvGrpSpPr/>
                <p:nvPr/>
              </p:nvGrpSpPr>
              <p:grpSpPr>
                <a:xfrm>
                  <a:off x="6084360" y="3837960"/>
                  <a:ext cx="1769760" cy="1899720"/>
                  <a:chOff x="6084360" y="3837960"/>
                  <a:chExt cx="1769760" cy="1899720"/>
                </a:xfrm>
              </p:grpSpPr>
              <p:sp>
                <p:nvSpPr>
                  <p:cNvPr id="748" name=""/>
                  <p:cNvSpPr/>
                  <p:nvPr/>
                </p:nvSpPr>
                <p:spPr>
                  <a:xfrm flipV="1" rot="19825800">
                    <a:off x="6683400" y="44791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 flipV="1" rot="19825800">
                    <a:off x="7063560" y="49550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 flipV="1" rot="19825800">
                    <a:off x="7071480" y="39582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 flipV="1" rot="19825800">
                    <a:off x="6204600" y="44499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 flipV="1" rot="3625800">
                    <a:off x="6915960" y="45961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3" name=""/>
                <p:cNvGrpSpPr/>
                <p:nvPr/>
              </p:nvGrpSpPr>
              <p:grpSpPr>
                <a:xfrm>
                  <a:off x="5209560" y="4334400"/>
                  <a:ext cx="1769760" cy="1899360"/>
                  <a:chOff x="5209560" y="4334400"/>
                  <a:chExt cx="1769760" cy="1899360"/>
                </a:xfrm>
              </p:grpSpPr>
              <p:sp>
                <p:nvSpPr>
                  <p:cNvPr id="754" name=""/>
                  <p:cNvSpPr/>
                  <p:nvPr/>
                </p:nvSpPr>
                <p:spPr>
                  <a:xfrm flipV="1" rot="19825800">
                    <a:off x="5808240" y="49755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 flipV="1" rot="19825800">
                    <a:off x="6188760" y="54511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 flipV="1" rot="19825800">
                    <a:off x="6196680" y="4454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 flipV="1" rot="19825800">
                    <a:off x="5329800" y="4946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 flipV="1" rot="3625800">
                    <a:off x="6041160" y="50922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59" name=""/>
            <p:cNvGrpSpPr/>
            <p:nvPr/>
          </p:nvGrpSpPr>
          <p:grpSpPr>
            <a:xfrm>
              <a:off x="5232960" y="341280"/>
              <a:ext cx="2644920" cy="2900520"/>
              <a:chOff x="5232960" y="341280"/>
              <a:chExt cx="2644920" cy="2900520"/>
            </a:xfrm>
          </p:grpSpPr>
          <p:grpSp>
            <p:nvGrpSpPr>
              <p:cNvPr id="760" name=""/>
              <p:cNvGrpSpPr/>
              <p:nvPr/>
            </p:nvGrpSpPr>
            <p:grpSpPr>
              <a:xfrm>
                <a:off x="5232960" y="341280"/>
                <a:ext cx="2644560" cy="2395440"/>
                <a:chOff x="5232960" y="341280"/>
                <a:chExt cx="2644560" cy="2395440"/>
              </a:xfrm>
            </p:grpSpPr>
            <p:grpSp>
              <p:nvGrpSpPr>
                <p:cNvPr id="761" name=""/>
                <p:cNvGrpSpPr/>
                <p:nvPr/>
              </p:nvGrpSpPr>
              <p:grpSpPr>
                <a:xfrm>
                  <a:off x="5244120" y="343440"/>
                  <a:ext cx="1769400" cy="1899360"/>
                  <a:chOff x="5244120" y="343440"/>
                  <a:chExt cx="1769400" cy="1899360"/>
                </a:xfrm>
              </p:grpSpPr>
              <p:sp>
                <p:nvSpPr>
                  <p:cNvPr id="762" name=""/>
                  <p:cNvSpPr/>
                  <p:nvPr/>
                </p:nvSpPr>
                <p:spPr>
                  <a:xfrm flipV="1" rot="19825800">
                    <a:off x="5842800" y="98460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 flipV="1" rot="19825800">
                    <a:off x="6222960" y="14601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 flipV="1" rot="19825800">
                    <a:off x="6230880" y="4636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 flipV="1" rot="19825800">
                    <a:off x="5364360" y="9554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V="1" rot="3625800">
                    <a:off x="6075720" y="11012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7" name=""/>
                <p:cNvGrpSpPr/>
                <p:nvPr/>
              </p:nvGrpSpPr>
              <p:grpSpPr>
                <a:xfrm>
                  <a:off x="6107760" y="341280"/>
                  <a:ext cx="1769760" cy="1899000"/>
                  <a:chOff x="6107760" y="341280"/>
                  <a:chExt cx="1769760" cy="1899000"/>
                </a:xfrm>
              </p:grpSpPr>
              <p:sp>
                <p:nvSpPr>
                  <p:cNvPr id="768" name=""/>
                  <p:cNvSpPr/>
                  <p:nvPr/>
                </p:nvSpPr>
                <p:spPr>
                  <a:xfrm rot="19825800">
                    <a:off x="6281640" y="7376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rot="19825800">
                    <a:off x="6234840" y="4615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rot="19825800">
                    <a:off x="7094880" y="9658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 rot="19825800">
                    <a:off x="6228000" y="1457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rot="14425800">
                    <a:off x="6641640" y="10785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3" name=""/>
                <p:cNvGrpSpPr/>
                <p:nvPr/>
              </p:nvGrpSpPr>
              <p:grpSpPr>
                <a:xfrm>
                  <a:off x="5232960" y="837360"/>
                  <a:ext cx="1769760" cy="1899360"/>
                  <a:chOff x="5232960" y="837360"/>
                  <a:chExt cx="1769760" cy="1899360"/>
                </a:xfrm>
              </p:grpSpPr>
              <p:sp>
                <p:nvSpPr>
                  <p:cNvPr id="774" name=""/>
                  <p:cNvSpPr/>
                  <p:nvPr/>
                </p:nvSpPr>
                <p:spPr>
                  <a:xfrm rot="19825800">
                    <a:off x="5406840" y="12340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rot="19825800">
                    <a:off x="5360040" y="95760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rot="19825800">
                    <a:off x="6220080" y="14623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rot="19825800">
                    <a:off x="5353200" y="19540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rot="14425800">
                    <a:off x="5766840" y="15750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9" name=""/>
              <p:cNvGrpSpPr/>
              <p:nvPr/>
            </p:nvGrpSpPr>
            <p:grpSpPr>
              <a:xfrm>
                <a:off x="5233320" y="846000"/>
                <a:ext cx="2644560" cy="2395800"/>
                <a:chOff x="5233320" y="846000"/>
                <a:chExt cx="2644560" cy="2395800"/>
              </a:xfrm>
            </p:grpSpPr>
            <p:grpSp>
              <p:nvGrpSpPr>
                <p:cNvPr id="780" name=""/>
                <p:cNvGrpSpPr/>
                <p:nvPr/>
              </p:nvGrpSpPr>
              <p:grpSpPr>
                <a:xfrm>
                  <a:off x="6096240" y="1340640"/>
                  <a:ext cx="1769400" cy="1899360"/>
                  <a:chOff x="6096240" y="1340640"/>
                  <a:chExt cx="1769400" cy="1899360"/>
                </a:xfrm>
              </p:grpSpPr>
              <p:sp>
                <p:nvSpPr>
                  <p:cNvPr id="781" name=""/>
                  <p:cNvSpPr/>
                  <p:nvPr/>
                </p:nvSpPr>
                <p:spPr>
                  <a:xfrm rot="19825800">
                    <a:off x="6269760" y="17373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rot="19825800">
                    <a:off x="6223320" y="14608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 rot="19825800">
                    <a:off x="7083000" y="1965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 rot="19825800">
                    <a:off x="6216480" y="24573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rot="14425800">
                    <a:off x="6629760" y="20782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6" name=""/>
                <p:cNvGrpSpPr/>
                <p:nvPr/>
              </p:nvGrpSpPr>
              <p:grpSpPr>
                <a:xfrm>
                  <a:off x="6108120" y="846000"/>
                  <a:ext cx="1769760" cy="1899360"/>
                  <a:chOff x="6108120" y="846000"/>
                  <a:chExt cx="1769760" cy="1899360"/>
                </a:xfrm>
              </p:grpSpPr>
              <p:sp>
                <p:nvSpPr>
                  <p:cNvPr id="787" name=""/>
                  <p:cNvSpPr/>
                  <p:nvPr/>
                </p:nvSpPr>
                <p:spPr>
                  <a:xfrm flipV="1" rot="19825800">
                    <a:off x="6707160" y="14871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flipV="1" rot="19825800">
                    <a:off x="7087320" y="19627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 flipV="1" rot="19825800">
                    <a:off x="7095240" y="9662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flipV="1" rot="19825800">
                    <a:off x="6228360" y="14580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V="1" rot="3625800">
                    <a:off x="6939720" y="16041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" name=""/>
                <p:cNvGrpSpPr/>
                <p:nvPr/>
              </p:nvGrpSpPr>
              <p:grpSpPr>
                <a:xfrm>
                  <a:off x="5233320" y="1342440"/>
                  <a:ext cx="1769760" cy="1899360"/>
                  <a:chOff x="5233320" y="1342440"/>
                  <a:chExt cx="1769760" cy="189936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 flipV="1" rot="19825800">
                    <a:off x="5832360" y="198360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flipV="1" rot="19825800">
                    <a:off x="6212520" y="24591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 flipV="1" rot="19825800">
                    <a:off x="6220440" y="14626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flipV="1" rot="19825800">
                    <a:off x="5353560" y="19544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flipV="1" rot="3625800">
                    <a:off x="6064920" y="21002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98" name=""/>
            <p:cNvGrpSpPr/>
            <p:nvPr/>
          </p:nvGrpSpPr>
          <p:grpSpPr>
            <a:xfrm>
              <a:off x="3492720" y="334440"/>
              <a:ext cx="2644920" cy="2900520"/>
              <a:chOff x="3492720" y="334440"/>
              <a:chExt cx="2644920" cy="2900520"/>
            </a:xfrm>
          </p:grpSpPr>
          <p:grpSp>
            <p:nvGrpSpPr>
              <p:cNvPr id="799" name=""/>
              <p:cNvGrpSpPr/>
              <p:nvPr/>
            </p:nvGrpSpPr>
            <p:grpSpPr>
              <a:xfrm>
                <a:off x="3492720" y="334440"/>
                <a:ext cx="2644560" cy="2395440"/>
                <a:chOff x="3492720" y="334440"/>
                <a:chExt cx="2644560" cy="2395440"/>
              </a:xfrm>
            </p:grpSpPr>
            <p:grpSp>
              <p:nvGrpSpPr>
                <p:cNvPr id="800" name=""/>
                <p:cNvGrpSpPr/>
                <p:nvPr/>
              </p:nvGrpSpPr>
              <p:grpSpPr>
                <a:xfrm>
                  <a:off x="3503880" y="336600"/>
                  <a:ext cx="1769400" cy="1899360"/>
                  <a:chOff x="3503880" y="336600"/>
                  <a:chExt cx="1769400" cy="1899360"/>
                </a:xfrm>
              </p:grpSpPr>
              <p:sp>
                <p:nvSpPr>
                  <p:cNvPr id="801" name=""/>
                  <p:cNvSpPr/>
                  <p:nvPr/>
                </p:nvSpPr>
                <p:spPr>
                  <a:xfrm flipV="1" rot="19825800">
                    <a:off x="4102560" y="9777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flipV="1" rot="19825800">
                    <a:off x="4482720" y="14533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flipV="1" rot="19825800">
                    <a:off x="4490640" y="4568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 flipV="1" rot="19825800">
                    <a:off x="3624120" y="948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 flipV="1" rot="3625800">
                    <a:off x="4335480" y="10944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6" name=""/>
                <p:cNvGrpSpPr/>
                <p:nvPr/>
              </p:nvGrpSpPr>
              <p:grpSpPr>
                <a:xfrm>
                  <a:off x="4367880" y="334440"/>
                  <a:ext cx="1769400" cy="1899000"/>
                  <a:chOff x="4367880" y="334440"/>
                  <a:chExt cx="1769400" cy="1899000"/>
                </a:xfrm>
              </p:grpSpPr>
              <p:sp>
                <p:nvSpPr>
                  <p:cNvPr id="807" name=""/>
                  <p:cNvSpPr/>
                  <p:nvPr/>
                </p:nvSpPr>
                <p:spPr>
                  <a:xfrm rot="19825800">
                    <a:off x="4541400" y="73080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 rot="19825800">
                    <a:off x="4494600" y="4546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rot="19825800">
                    <a:off x="5354640" y="9590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 rot="19825800">
                    <a:off x="4488120" y="14508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rot="14425800">
                    <a:off x="4901400" y="10717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2" name=""/>
                <p:cNvGrpSpPr/>
                <p:nvPr/>
              </p:nvGrpSpPr>
              <p:grpSpPr>
                <a:xfrm>
                  <a:off x="3492720" y="830520"/>
                  <a:ext cx="1769760" cy="1899360"/>
                  <a:chOff x="3492720" y="830520"/>
                  <a:chExt cx="1769760" cy="189936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 rot="19825800">
                    <a:off x="3666600" y="12272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 rot="19825800">
                    <a:off x="3619800" y="9507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rot="19825800">
                    <a:off x="4479840" y="14554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 rot="19825800">
                    <a:off x="3612960" y="19472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rot="14425800">
                    <a:off x="4026600" y="15681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8" name=""/>
              <p:cNvGrpSpPr/>
              <p:nvPr/>
            </p:nvGrpSpPr>
            <p:grpSpPr>
              <a:xfrm>
                <a:off x="3493080" y="839160"/>
                <a:ext cx="2644560" cy="2395800"/>
                <a:chOff x="3493080" y="839160"/>
                <a:chExt cx="2644560" cy="2395800"/>
              </a:xfrm>
            </p:grpSpPr>
            <p:grpSp>
              <p:nvGrpSpPr>
                <p:cNvPr id="819" name=""/>
                <p:cNvGrpSpPr/>
                <p:nvPr/>
              </p:nvGrpSpPr>
              <p:grpSpPr>
                <a:xfrm>
                  <a:off x="4356000" y="1334160"/>
                  <a:ext cx="1769400" cy="1899000"/>
                  <a:chOff x="4356000" y="1334160"/>
                  <a:chExt cx="1769400" cy="189900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 rot="19825800">
                    <a:off x="4529520" y="17305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rot="19825800">
                    <a:off x="4483080" y="145440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 rot="19825800">
                    <a:off x="5342760" y="19587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 rot="19825800">
                    <a:off x="4476240" y="24505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rot="14425800">
                    <a:off x="4889520" y="20714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5" name=""/>
                <p:cNvGrpSpPr/>
                <p:nvPr/>
              </p:nvGrpSpPr>
              <p:grpSpPr>
                <a:xfrm>
                  <a:off x="4367880" y="839160"/>
                  <a:ext cx="1769760" cy="1899360"/>
                  <a:chOff x="4367880" y="839160"/>
                  <a:chExt cx="1769760" cy="189936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 flipV="1" rot="19825800">
                    <a:off x="4966920" y="14803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 flipV="1" rot="19825800">
                    <a:off x="5347080" y="19558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flipV="1" rot="19825800">
                    <a:off x="5355000" y="959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V="1" rot="19825800">
                    <a:off x="4488120" y="14511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flipV="1" rot="3625800">
                    <a:off x="5199480" y="15973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1" name=""/>
                <p:cNvGrpSpPr/>
                <p:nvPr/>
              </p:nvGrpSpPr>
              <p:grpSpPr>
                <a:xfrm>
                  <a:off x="3493080" y="1335600"/>
                  <a:ext cx="1769760" cy="1899360"/>
                  <a:chOff x="3493080" y="1335600"/>
                  <a:chExt cx="1769760" cy="1899360"/>
                </a:xfrm>
              </p:grpSpPr>
              <p:sp>
                <p:nvSpPr>
                  <p:cNvPr id="832" name=""/>
                  <p:cNvSpPr/>
                  <p:nvPr/>
                </p:nvSpPr>
                <p:spPr>
                  <a:xfrm flipV="1" rot="19825800">
                    <a:off x="4092120" y="19767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 flipV="1" rot="19825800">
                    <a:off x="4472280" y="24523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V="1" rot="19825800">
                    <a:off x="4480200" y="14558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 flipV="1" rot="19825800">
                    <a:off x="3613320" y="1947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 flipV="1" rot="3625800">
                    <a:off x="4324680" y="20934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37" name=""/>
            <p:cNvGrpSpPr/>
            <p:nvPr/>
          </p:nvGrpSpPr>
          <p:grpSpPr>
            <a:xfrm>
              <a:off x="1764720" y="321840"/>
              <a:ext cx="2644560" cy="2900880"/>
              <a:chOff x="1764720" y="321840"/>
              <a:chExt cx="2644560" cy="2900880"/>
            </a:xfrm>
          </p:grpSpPr>
          <p:grpSp>
            <p:nvGrpSpPr>
              <p:cNvPr id="838" name=""/>
              <p:cNvGrpSpPr/>
              <p:nvPr/>
            </p:nvGrpSpPr>
            <p:grpSpPr>
              <a:xfrm>
                <a:off x="1764720" y="321840"/>
                <a:ext cx="2644560" cy="2396160"/>
                <a:chOff x="1764720" y="321840"/>
                <a:chExt cx="2644560" cy="2396160"/>
              </a:xfrm>
            </p:grpSpPr>
            <p:grpSp>
              <p:nvGrpSpPr>
                <p:cNvPr id="839" name=""/>
                <p:cNvGrpSpPr/>
                <p:nvPr/>
              </p:nvGrpSpPr>
              <p:grpSpPr>
                <a:xfrm>
                  <a:off x="1775520" y="324360"/>
                  <a:ext cx="1769400" cy="1900440"/>
                  <a:chOff x="1775520" y="324360"/>
                  <a:chExt cx="1769400" cy="1900440"/>
                </a:xfrm>
              </p:grpSpPr>
              <p:sp>
                <p:nvSpPr>
                  <p:cNvPr id="840" name=""/>
                  <p:cNvSpPr/>
                  <p:nvPr/>
                </p:nvSpPr>
                <p:spPr>
                  <a:xfrm flipV="1" rot="19825800">
                    <a:off x="2374200" y="9651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 flipV="1" rot="19825800">
                    <a:off x="2755080" y="14421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 flipV="1" rot="19825800">
                    <a:off x="2762280" y="444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 flipV="1" rot="19825800">
                    <a:off x="1895760" y="9363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 flipV="1" rot="3625800">
                    <a:off x="2607120" y="10825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5" name=""/>
                <p:cNvGrpSpPr/>
                <p:nvPr/>
              </p:nvGrpSpPr>
              <p:grpSpPr>
                <a:xfrm>
                  <a:off x="2639520" y="321840"/>
                  <a:ext cx="1769760" cy="1899720"/>
                  <a:chOff x="2639520" y="321840"/>
                  <a:chExt cx="1769760" cy="1899720"/>
                </a:xfrm>
              </p:grpSpPr>
              <p:sp>
                <p:nvSpPr>
                  <p:cNvPr id="846" name=""/>
                  <p:cNvSpPr/>
                  <p:nvPr/>
                </p:nvSpPr>
                <p:spPr>
                  <a:xfrm rot="19825800">
                    <a:off x="2813400" y="7192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 rot="19825800">
                    <a:off x="2766600" y="4420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 rot="19825800">
                    <a:off x="3626640" y="9475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 rot="19825800">
                    <a:off x="2759760" y="14389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 rot="14425800">
                    <a:off x="3173040" y="10598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1" name=""/>
                <p:cNvGrpSpPr/>
                <p:nvPr/>
              </p:nvGrpSpPr>
              <p:grpSpPr>
                <a:xfrm>
                  <a:off x="1764720" y="817920"/>
                  <a:ext cx="1769760" cy="1900080"/>
                  <a:chOff x="1764720" y="817920"/>
                  <a:chExt cx="1769760" cy="1900080"/>
                </a:xfrm>
              </p:grpSpPr>
              <p:sp>
                <p:nvSpPr>
                  <p:cNvPr id="852" name=""/>
                  <p:cNvSpPr/>
                  <p:nvPr/>
                </p:nvSpPr>
                <p:spPr>
                  <a:xfrm rot="19825800">
                    <a:off x="1938600" y="12157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rot="19825800">
                    <a:off x="1891800" y="9381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 rot="19825800">
                    <a:off x="2751840" y="1443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 rot="19825800">
                    <a:off x="1884960" y="19353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rot="14425800">
                    <a:off x="2298240" y="15562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7" name=""/>
              <p:cNvGrpSpPr/>
              <p:nvPr/>
            </p:nvGrpSpPr>
            <p:grpSpPr>
              <a:xfrm>
                <a:off x="1764720" y="826920"/>
                <a:ext cx="2644560" cy="2395800"/>
                <a:chOff x="1764720" y="826920"/>
                <a:chExt cx="2644560" cy="2395800"/>
              </a:xfrm>
            </p:grpSpPr>
            <p:grpSp>
              <p:nvGrpSpPr>
                <p:cNvPr id="858" name=""/>
                <p:cNvGrpSpPr/>
                <p:nvPr/>
              </p:nvGrpSpPr>
              <p:grpSpPr>
                <a:xfrm>
                  <a:off x="2627280" y="1321560"/>
                  <a:ext cx="1769760" cy="1899360"/>
                  <a:chOff x="2627280" y="1321560"/>
                  <a:chExt cx="1769760" cy="1899360"/>
                </a:xfrm>
              </p:grpSpPr>
              <p:sp>
                <p:nvSpPr>
                  <p:cNvPr id="859" name=""/>
                  <p:cNvSpPr/>
                  <p:nvPr/>
                </p:nvSpPr>
                <p:spPr>
                  <a:xfrm rot="19825800">
                    <a:off x="2801160" y="17182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rot="19825800">
                    <a:off x="2754360" y="144180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 rot="19825800">
                    <a:off x="3614400" y="19465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rot="19825800">
                    <a:off x="2747520" y="24382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 rot="14425800">
                    <a:off x="3161160" y="20592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4" name=""/>
                <p:cNvGrpSpPr/>
                <p:nvPr/>
              </p:nvGrpSpPr>
              <p:grpSpPr>
                <a:xfrm>
                  <a:off x="2639520" y="826920"/>
                  <a:ext cx="1769760" cy="1899360"/>
                  <a:chOff x="2639520" y="826920"/>
                  <a:chExt cx="1769760" cy="1899360"/>
                </a:xfrm>
              </p:grpSpPr>
              <p:sp>
                <p:nvSpPr>
                  <p:cNvPr id="865" name=""/>
                  <p:cNvSpPr/>
                  <p:nvPr/>
                </p:nvSpPr>
                <p:spPr>
                  <a:xfrm flipV="1" rot="19825800">
                    <a:off x="3238560" y="14680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 flipV="1" rot="19825800">
                    <a:off x="3618720" y="19436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flipV="1" rot="19825800">
                    <a:off x="3626640" y="9471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flipV="1" rot="19825800">
                    <a:off x="2759760" y="14389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V="1" rot="3625800">
                    <a:off x="3471120" y="15847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0" name=""/>
                <p:cNvGrpSpPr/>
                <p:nvPr/>
              </p:nvGrpSpPr>
              <p:grpSpPr>
                <a:xfrm>
                  <a:off x="1764720" y="1323360"/>
                  <a:ext cx="1769760" cy="1899360"/>
                  <a:chOff x="1764720" y="1323360"/>
                  <a:chExt cx="1769760" cy="1899360"/>
                </a:xfrm>
              </p:grpSpPr>
              <p:sp>
                <p:nvSpPr>
                  <p:cNvPr id="871" name=""/>
                  <p:cNvSpPr/>
                  <p:nvPr/>
                </p:nvSpPr>
                <p:spPr>
                  <a:xfrm flipV="1" rot="19825800">
                    <a:off x="2363400" y="19641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 flipV="1" rot="19825800">
                    <a:off x="2743920" y="24400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 flipV="1" rot="19825800">
                    <a:off x="2751840" y="1443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 flipV="1" rot="19825800">
                    <a:off x="1884960" y="19353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 flipV="1" rot="3625800">
                    <a:off x="2596320" y="20811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76" name=""/>
          <p:cNvSpPr/>
          <p:nvPr/>
        </p:nvSpPr>
        <p:spPr>
          <a:xfrm>
            <a:off x="4651200" y="3379680"/>
            <a:ext cx="1936800" cy="1936800"/>
          </a:xfrm>
          <a:prstGeom prst="ellipse">
            <a:avLst/>
          </a:prstGeom>
          <a:solidFill>
            <a:srgbClr val="66ff66">
              <a:alpha val="4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340000" y="2038320"/>
            <a:ext cx="1414440" cy="1414440"/>
          </a:xfrm>
          <a:prstGeom prst="ellipse">
            <a:avLst/>
          </a:prstGeom>
          <a:solidFill>
            <a:srgbClr val="66ff66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936800" y="616572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de cône Cerenkov à 1,5m et 2m de la surface des P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16000" y="152280"/>
            <a:ext cx="650880" cy="65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rot="16200000">
            <a:off x="7343640" y="190440"/>
            <a:ext cx="395280" cy="395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902880" y="295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’’ (46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832520" y="22536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’’ (28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5B835-30DB-4864-A196-EAE371F66E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3:02:48Z</dcterms:created>
  <dc:creator>J.E Campagne</dc:creator>
  <dc:description/>
  <dc:language>en-US</dc:language>
  <cp:lastModifiedBy>J.E Campagne</cp:lastModifiedBy>
  <dcterms:modified xsi:type="dcterms:W3CDTF">2005-10-27T12:36:26Z</dcterms:modified>
  <cp:revision>14</cp:revision>
  <dc:subject/>
  <dc:title>Diapositive 1</dc:title>
</cp:coreProperties>
</file>